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49BC-C2DE-4169-8FF4-3FF1D07CD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6284-2A28-4D66-8A6B-C32EBB481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30A7-4837-474A-B728-2E5C2B95B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04FE-A6DF-4BE9-ADB9-094195168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8589F-9A4E-4C39-9F5D-3CAB18283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67460-5053-455A-93B6-8498A1BB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E9438-2558-42C4-8E70-5C4EDCC24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D5F79-C995-426E-AA5A-F9D7EA344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0FF51-8F05-4CEC-B3D6-6F4D2570E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D1CED-EAE5-41DD-8F84-909C28B26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40E25-EAAB-495D-B678-EEE94269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35E6-8393-4101-ACFF-39FB83BD0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46998-D6C1-437B-8DAC-89CD222A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40F74-E65A-49E2-AF39-217D5034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61701-69C5-4A71-8DA2-110587F9F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6BB45-42EF-4CA9-8397-CB9CE679A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FAECA-205B-450F-9BEE-5E1E2F1C8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2108-32B0-49A8-A556-BEBFD0BC2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8B55-78E8-4A8F-A30C-AF810EDD1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1A65-5611-4878-89FB-901EB4E31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3F8C-0919-4F68-9FE5-147029857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3838-8E69-4F4B-9E84-3BB78026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189F-8213-45F4-AFA7-AA66347D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3AEF-F724-4F5A-9022-882C3F7A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FFECE-B28A-4C11-9584-1562657230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0C1A1-DA34-466C-8445-F3528FDF49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Brain Imaging Technology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arijuana U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8 year old with 10 years of weekend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8 year old with 12 year daily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7" descr="jung2"/>
          <p:cNvPicPr/>
          <p:nvPr/>
        </p:nvPicPr>
        <p:blipFill>
          <a:blip r:embed="rId1"/>
          <a:stretch/>
        </p:blipFill>
        <p:spPr>
          <a:xfrm>
            <a:off x="1905120" y="3352680"/>
            <a:ext cx="2057400" cy="2362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erfert"/>
          <p:cNvPicPr/>
          <p:nvPr/>
        </p:nvPicPr>
        <p:blipFill>
          <a:blip r:embed="rId2"/>
          <a:stretch/>
        </p:blipFill>
        <p:spPr>
          <a:xfrm>
            <a:off x="5943600" y="3352680"/>
            <a:ext cx="2057400" cy="236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eroin and Methodone U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917960" y="407628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8" descr="heroin3D"/>
          <p:cNvPicPr/>
          <p:nvPr/>
        </p:nvPicPr>
        <p:blipFill>
          <a:blip r:embed="rId1"/>
          <a:stretch/>
        </p:blipFill>
        <p:spPr>
          <a:xfrm>
            <a:off x="1908000" y="1905120"/>
            <a:ext cx="1787760" cy="2019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heroin3"/>
          <p:cNvPicPr/>
          <p:nvPr/>
        </p:nvPicPr>
        <p:blipFill>
          <a:blip r:embed="rId2"/>
          <a:stretch/>
        </p:blipFill>
        <p:spPr>
          <a:xfrm>
            <a:off x="5902200" y="1905120"/>
            <a:ext cx="1957680" cy="2019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"/>
          <p:cNvPicPr/>
          <p:nvPr/>
        </p:nvPicPr>
        <p:blipFill>
          <a:blip r:embed="rId3"/>
          <a:stretch/>
        </p:blipFill>
        <p:spPr>
          <a:xfrm>
            <a:off x="1981080" y="4267080"/>
            <a:ext cx="1597320" cy="171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768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" dur="768" fill="hold"/>
                                        <p:tgtEl>
                                          <p:spTgt spid="1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5" dur="768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7" dur="768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caine U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4 year old with 2 year frequent cocaine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8 year old with 8 years heavy meth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7" descr=""/>
          <p:cNvPicPr/>
          <p:nvPr/>
        </p:nvPicPr>
        <p:blipFill>
          <a:blip r:embed="rId1"/>
          <a:stretch/>
        </p:blipFill>
        <p:spPr>
          <a:xfrm>
            <a:off x="1523880" y="3505320"/>
            <a:ext cx="2114640" cy="2495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FR3"/>
          <p:cNvPicPr/>
          <p:nvPr/>
        </p:nvPicPr>
        <p:blipFill>
          <a:blip r:embed="rId2"/>
          <a:stretch/>
        </p:blipFill>
        <p:spPr>
          <a:xfrm>
            <a:off x="6019920" y="3581280"/>
            <a:ext cx="1904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Hope for Healing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Alcohol,  Cocaine &amp; Meth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On and Off Drugs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ring ab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year drug fr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11" descr="9297U"/>
          <p:cNvPicPr/>
          <p:nvPr/>
        </p:nvPicPr>
        <p:blipFill>
          <a:blip r:embed="rId1"/>
          <a:stretch/>
        </p:blipFill>
        <p:spPr>
          <a:xfrm>
            <a:off x="5562720" y="2819520"/>
            <a:ext cx="2590560" cy="31240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91196T"/>
          <p:cNvPicPr/>
          <p:nvPr/>
        </p:nvPicPr>
        <p:blipFill>
          <a:blip r:embed="rId2"/>
          <a:stretch/>
        </p:blipFill>
        <p:spPr>
          <a:xfrm>
            <a:off x="1371600" y="2895480"/>
            <a:ext cx="2666880" cy="30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98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98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98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Different Brains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Different Learners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ttention Deficit Disorde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ain at r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ain in concen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11" descr="add2"/>
          <p:cNvPicPr/>
          <p:nvPr/>
        </p:nvPicPr>
        <p:blipFill>
          <a:blip r:embed="rId1"/>
          <a:stretch/>
        </p:blipFill>
        <p:spPr>
          <a:xfrm>
            <a:off x="5486400" y="2743200"/>
            <a:ext cx="2971800" cy="33526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add1"/>
          <p:cNvPicPr/>
          <p:nvPr/>
        </p:nvPicPr>
        <p:blipFill>
          <a:blip r:embed="rId2"/>
          <a:stretch/>
        </p:blipFill>
        <p:spPr>
          <a:xfrm>
            <a:off x="1371600" y="2743200"/>
            <a:ext cx="2895480" cy="33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Vigorous exercise improves concentra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fore exercise or med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exercise or med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13" descr="meds"/>
          <p:cNvPicPr/>
          <p:nvPr/>
        </p:nvPicPr>
        <p:blipFill>
          <a:blip r:embed="rId1"/>
          <a:stretch/>
        </p:blipFill>
        <p:spPr>
          <a:xfrm>
            <a:off x="5791320" y="3200400"/>
            <a:ext cx="1981080" cy="25146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nomeds"/>
          <p:cNvPicPr/>
          <p:nvPr/>
        </p:nvPicPr>
        <p:blipFill>
          <a:blip r:embed="rId2"/>
          <a:stretch/>
        </p:blipFill>
        <p:spPr>
          <a:xfrm>
            <a:off x="1905120" y="3200400"/>
            <a:ext cx="1981080" cy="259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DH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side surface view, concentration study, no med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ed decreased prefrontal and temporal lobe a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7" descr="bj1"/>
          <p:cNvPicPr/>
          <p:nvPr/>
        </p:nvPicPr>
        <p:blipFill>
          <a:blip r:embed="rId1"/>
          <a:stretch/>
        </p:blipFill>
        <p:spPr>
          <a:xfrm>
            <a:off x="1752480" y="2743200"/>
            <a:ext cx="228600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Violent Behavio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rdered 2 girls at a McDonald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ed decreased prefrontal cortex a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7" descr=""/>
          <p:cNvPicPr/>
          <p:nvPr/>
        </p:nvPicPr>
        <p:blipFill>
          <a:blip r:embed="rId1"/>
          <a:stretch/>
        </p:blipFill>
        <p:spPr>
          <a:xfrm>
            <a:off x="5181480" y="1905120"/>
            <a:ext cx="3408480" cy="419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MS… It’s the real th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fore cy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ring cy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13" descr="PMSSAUHL"/>
          <p:cNvPicPr/>
          <p:nvPr/>
        </p:nvPicPr>
        <p:blipFill>
          <a:blip r:embed="rId1"/>
          <a:stretch/>
        </p:blipFill>
        <p:spPr>
          <a:xfrm>
            <a:off x="1295280" y="2819520"/>
            <a:ext cx="2911680" cy="33526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PMSBUHL"/>
          <p:cNvPicPr/>
          <p:nvPr/>
        </p:nvPicPr>
        <p:blipFill>
          <a:blip r:embed="rId2"/>
          <a:stretch/>
        </p:blipFill>
        <p:spPr>
          <a:xfrm>
            <a:off x="5638680" y="2819520"/>
            <a:ext cx="2838600" cy="32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SPECT Image of a 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Normal Brain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1" name="Picture 6" descr="dSURTD"/>
          <p:cNvPicPr/>
          <p:nvPr/>
        </p:nvPicPr>
        <p:blipFill>
          <a:blip r:embed="rId1"/>
          <a:stretch/>
        </p:blipFill>
        <p:spPr>
          <a:xfrm>
            <a:off x="2895480" y="1676520"/>
            <a:ext cx="396252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r. Daniel Ame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an Blaydes Madi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ww.actionbasedlearning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Effects of DRUG and Alcohol use 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eavy Nicotine &amp;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affeine Abu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5 year old 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7 year history of heavy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 packs of cigarettes and 3 pots of coffee dai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ked decrease of frontal lobe a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7" descr="caffeine &amp; nicotine"/>
          <p:cNvPicPr/>
          <p:nvPr/>
        </p:nvPicPr>
        <p:blipFill>
          <a:blip r:embed="rId1"/>
          <a:stretch/>
        </p:blipFill>
        <p:spPr>
          <a:xfrm>
            <a:off x="1523880" y="2666880"/>
            <a:ext cx="2438640" cy="289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250" autoRev="1" fill="hold"/>
                                        <p:tgtEl>
                                          <p:spTgt spid="1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trokes: The reason NOT to smoke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ft Frontal stro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sided stro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12" descr="!stroke1"/>
          <p:cNvPicPr/>
          <p:nvPr/>
        </p:nvPicPr>
        <p:blipFill>
          <a:blip r:embed="rId1"/>
          <a:stretch/>
        </p:blipFill>
        <p:spPr>
          <a:xfrm>
            <a:off x="5791320" y="3429000"/>
            <a:ext cx="2286000" cy="26575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strokeun"/>
          <p:cNvPicPr/>
          <p:nvPr/>
        </p:nvPicPr>
        <p:blipFill>
          <a:blip r:embed="rId2"/>
          <a:stretch/>
        </p:blipFill>
        <p:spPr>
          <a:xfrm>
            <a:off x="1676520" y="3429000"/>
            <a:ext cx="2361960" cy="263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ffects of Alcohol U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8 year old with 17 years of heavy weekend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side 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all decreased a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4" descr="!k3"/>
          <p:cNvPicPr/>
          <p:nvPr/>
        </p:nvPicPr>
        <p:blipFill>
          <a:blip r:embed="rId1"/>
          <a:stretch/>
        </p:blipFill>
        <p:spPr>
          <a:xfrm>
            <a:off x="1295280" y="1981080"/>
            <a:ext cx="3200400" cy="381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lcohol U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activity in the parietal lo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7 year old binge drinker on weeke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7" descr="!k1"/>
          <p:cNvPicPr/>
          <p:nvPr/>
        </p:nvPicPr>
        <p:blipFill>
          <a:blip r:embed="rId1"/>
          <a:stretch/>
        </p:blipFill>
        <p:spPr>
          <a:xfrm>
            <a:off x="990720" y="1981080"/>
            <a:ext cx="3809880" cy="30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arijuana U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6 Year old with 2 year history of daily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ed inactivity in the prefrontal lo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temporal lo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6" descr="merrell"/>
          <p:cNvPicPr/>
          <p:nvPr/>
        </p:nvPicPr>
        <p:blipFill>
          <a:blip r:embed="rId1"/>
          <a:stretch/>
        </p:blipFill>
        <p:spPr>
          <a:xfrm>
            <a:off x="1523880" y="2057400"/>
            <a:ext cx="281952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8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98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98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98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arijuana U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 year old with 3 year history of 4X a week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7" descr="!dukker"/>
          <p:cNvPicPr/>
          <p:nvPr/>
        </p:nvPicPr>
        <p:blipFill>
          <a:blip r:embed="rId1"/>
          <a:stretch/>
        </p:blipFill>
        <p:spPr>
          <a:xfrm>
            <a:off x="1371600" y="2590920"/>
            <a:ext cx="220968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9T23:00:03Z</dcterms:created>
  <dc:creator> Jean Madigan</dc:creator>
  <dc:description/>
  <dc:language>en-US</dc:language>
  <cp:lastModifiedBy>Jean Madigan</cp:lastModifiedBy>
  <dcterms:modified xsi:type="dcterms:W3CDTF">2009-11-12T22:07:00Z</dcterms:modified>
  <cp:revision>24</cp:revision>
  <dc:subject/>
  <dc:title>Brain Imaging Technology</dc:title>
</cp:coreProperties>
</file>