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2C89-E4FF-4C35-9777-2F38B9103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B2D1-B064-4883-9CCF-DD98908A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6D11-D1DE-4B17-B723-9648E8D1A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D1B3-C78B-401E-8369-9745553CE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4DCE-D25E-4CD4-B0B9-EAD671687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C4D3-5F9C-41A9-AA34-EEA2671B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FDC34-4360-4699-BF69-F31847EC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6556-4CCB-40D0-B70C-4619BB90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7D43-AFCD-4FC0-AAAE-F206EE9D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ED13-3B90-41DD-B32B-A7B180ED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44FE-1259-411C-8833-A8A1255D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9956-5839-4373-A6BA-0D292A24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F126-88F7-4FEB-900D-10F3E7E5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FFFA-61F2-4336-9FFC-5B8A59E6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EF14-67E5-4866-A382-4BEF9A5F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85BF-91F9-415C-8824-1C742FDD8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EE67-7366-40E9-8D23-EA0F72E72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7462-B6B0-4BA5-9E8A-621243C5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A746-BD92-4C7E-A1FC-B665881D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6746-CE47-42C3-8A17-F33F79DE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1102-609B-494E-9FE3-3B5EBF97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977E-997D-43F7-83A9-4487747F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0706-7BBB-419C-BAE5-C7C1E6DC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A364-5C3A-4173-840A-48DB4705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F6A7-88D3-4AE5-948C-B2322277E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6DA7-2D48-4EEF-9CD5-F7160B0828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Brain Imaging Technolog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rijuana 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8 year old with 10 years of weekend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8 year old with 12 year daily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7" descr="jung2"/>
          <p:cNvPicPr/>
          <p:nvPr/>
        </p:nvPicPr>
        <p:blipFill>
          <a:blip r:embed="rId1"/>
          <a:stretch/>
        </p:blipFill>
        <p:spPr>
          <a:xfrm>
            <a:off x="1905120" y="3352680"/>
            <a:ext cx="2057400" cy="2362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erfert"/>
          <p:cNvPicPr/>
          <p:nvPr/>
        </p:nvPicPr>
        <p:blipFill>
          <a:blip r:embed="rId2"/>
          <a:stretch/>
        </p:blipFill>
        <p:spPr>
          <a:xfrm>
            <a:off x="5943600" y="3352680"/>
            <a:ext cx="205740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eroin and Methodone 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91796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8" descr="heroin3D"/>
          <p:cNvPicPr/>
          <p:nvPr/>
        </p:nvPicPr>
        <p:blipFill>
          <a:blip r:embed="rId1"/>
          <a:stretch/>
        </p:blipFill>
        <p:spPr>
          <a:xfrm>
            <a:off x="1908000" y="1905120"/>
            <a:ext cx="1787760" cy="2019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heroin3"/>
          <p:cNvPicPr/>
          <p:nvPr/>
        </p:nvPicPr>
        <p:blipFill>
          <a:blip r:embed="rId2"/>
          <a:stretch/>
        </p:blipFill>
        <p:spPr>
          <a:xfrm>
            <a:off x="5902200" y="1905120"/>
            <a:ext cx="1957680" cy="201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"/>
          <p:cNvPicPr/>
          <p:nvPr/>
        </p:nvPicPr>
        <p:blipFill>
          <a:blip r:embed="rId3"/>
          <a:stretch/>
        </p:blipFill>
        <p:spPr>
          <a:xfrm>
            <a:off x="1981080" y="4267080"/>
            <a:ext cx="1597320" cy="17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68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68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6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6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caine 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4 year old with 2 year frequent cocaine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8 year old with 8 years heavy meth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1523880" y="3505320"/>
            <a:ext cx="2114640" cy="2495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FR3"/>
          <p:cNvPicPr/>
          <p:nvPr/>
        </p:nvPicPr>
        <p:blipFill>
          <a:blip r:embed="rId2"/>
          <a:stretch/>
        </p:blipFill>
        <p:spPr>
          <a:xfrm>
            <a:off x="6019920" y="3581280"/>
            <a:ext cx="1904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Hope for Healing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Alcohol,  Cocaine &amp; Meth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On and Off Drugs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ab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year drug f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1" descr="9297U"/>
          <p:cNvPicPr/>
          <p:nvPr/>
        </p:nvPicPr>
        <p:blipFill>
          <a:blip r:embed="rId1"/>
          <a:stretch/>
        </p:blipFill>
        <p:spPr>
          <a:xfrm>
            <a:off x="5562720" y="2819520"/>
            <a:ext cx="2590560" cy="3124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91196T"/>
          <p:cNvPicPr/>
          <p:nvPr/>
        </p:nvPicPr>
        <p:blipFill>
          <a:blip r:embed="rId2"/>
          <a:stretch/>
        </p:blipFill>
        <p:spPr>
          <a:xfrm>
            <a:off x="1371600" y="2895480"/>
            <a:ext cx="266688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98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98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98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Different Brains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Different Learner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ttention Deficit Disorde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in at 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in in concen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1" descr="add2"/>
          <p:cNvPicPr/>
          <p:nvPr/>
        </p:nvPicPr>
        <p:blipFill>
          <a:blip r:embed="rId1"/>
          <a:stretch/>
        </p:blipFill>
        <p:spPr>
          <a:xfrm>
            <a:off x="5486400" y="2743200"/>
            <a:ext cx="2971800" cy="3352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add1"/>
          <p:cNvPicPr/>
          <p:nvPr/>
        </p:nvPicPr>
        <p:blipFill>
          <a:blip r:embed="rId2"/>
          <a:stretch/>
        </p:blipFill>
        <p:spPr>
          <a:xfrm>
            <a:off x="1371600" y="2743200"/>
            <a:ext cx="289548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igorous exercise improves concentr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fore exercise or med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exercise or med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3" descr="meds"/>
          <p:cNvPicPr/>
          <p:nvPr/>
        </p:nvPicPr>
        <p:blipFill>
          <a:blip r:embed="rId1"/>
          <a:stretch/>
        </p:blipFill>
        <p:spPr>
          <a:xfrm>
            <a:off x="5791320" y="3200400"/>
            <a:ext cx="1981080" cy="2514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nomeds"/>
          <p:cNvPicPr/>
          <p:nvPr/>
        </p:nvPicPr>
        <p:blipFill>
          <a:blip r:embed="rId2"/>
          <a:stretch/>
        </p:blipFill>
        <p:spPr>
          <a:xfrm>
            <a:off x="1905120" y="3200400"/>
            <a:ext cx="198108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DH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ide surface view, concentration study, no med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d decreased prefrontal and temporal lobe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7" descr="bj1"/>
          <p:cNvPicPr/>
          <p:nvPr/>
        </p:nvPicPr>
        <p:blipFill>
          <a:blip r:embed="rId1"/>
          <a:stretch/>
        </p:blipFill>
        <p:spPr>
          <a:xfrm>
            <a:off x="1752480" y="2743200"/>
            <a:ext cx="22860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iolent Behavio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rdered 2 girls at a McDonald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d decreased prefrontal cortex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7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3408480" cy="41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MS… It’s the real th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fore cy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cy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13" descr="PMSSAUHL"/>
          <p:cNvPicPr/>
          <p:nvPr/>
        </p:nvPicPr>
        <p:blipFill>
          <a:blip r:embed="rId1"/>
          <a:stretch/>
        </p:blipFill>
        <p:spPr>
          <a:xfrm>
            <a:off x="1295280" y="2819520"/>
            <a:ext cx="2911680" cy="3352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PMSBUHL"/>
          <p:cNvPicPr/>
          <p:nvPr/>
        </p:nvPicPr>
        <p:blipFill>
          <a:blip r:embed="rId2"/>
          <a:stretch/>
        </p:blipFill>
        <p:spPr>
          <a:xfrm>
            <a:off x="5638680" y="2819520"/>
            <a:ext cx="2838600" cy="32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PECT Image of a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Normal Brain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Picture 6" descr="dSURTD"/>
          <p:cNvPicPr/>
          <p:nvPr/>
        </p:nvPicPr>
        <p:blipFill>
          <a:blip r:embed="rId1"/>
          <a:stretch/>
        </p:blipFill>
        <p:spPr>
          <a:xfrm>
            <a:off x="2895480" y="1676520"/>
            <a:ext cx="396252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r. Daniel Am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an Blaydes Madi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actionbasedlearning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Effects of DRUG and Alcohol use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eavy Nicotine &amp;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affeine Ab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5 year old 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7 year history of heavy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 packs of cigarettes and 3 pots of coffee da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ed decrease of frontal lobe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7" descr="caffeine &amp; nicotine"/>
          <p:cNvPicPr/>
          <p:nvPr/>
        </p:nvPicPr>
        <p:blipFill>
          <a:blip r:embed="rId1"/>
          <a:stretch/>
        </p:blipFill>
        <p:spPr>
          <a:xfrm>
            <a:off x="1523880" y="2666880"/>
            <a:ext cx="2438640" cy="28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25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rokes: The reason NOT to smoke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ft Frontal stro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sided stro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12" descr="!stroke1"/>
          <p:cNvPicPr/>
          <p:nvPr/>
        </p:nvPicPr>
        <p:blipFill>
          <a:blip r:embed="rId1"/>
          <a:stretch/>
        </p:blipFill>
        <p:spPr>
          <a:xfrm>
            <a:off x="5791320" y="3429000"/>
            <a:ext cx="2286000" cy="2657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strokeun"/>
          <p:cNvPicPr/>
          <p:nvPr/>
        </p:nvPicPr>
        <p:blipFill>
          <a:blip r:embed="rId2"/>
          <a:stretch/>
        </p:blipFill>
        <p:spPr>
          <a:xfrm>
            <a:off x="1676520" y="3429000"/>
            <a:ext cx="2361960" cy="263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ffects of Alcohol 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8 year old with 17 years of heavy weekend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ide 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all decreased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!k3"/>
          <p:cNvPicPr/>
          <p:nvPr/>
        </p:nvPicPr>
        <p:blipFill>
          <a:blip r:embed="rId1"/>
          <a:stretch/>
        </p:blipFill>
        <p:spPr>
          <a:xfrm>
            <a:off x="1295280" y="1981080"/>
            <a:ext cx="3200400" cy="38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lcohol 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activity in the parietal lo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 year old binge drinker on weeke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7" descr="!k1"/>
          <p:cNvPicPr/>
          <p:nvPr/>
        </p:nvPicPr>
        <p:blipFill>
          <a:blip r:embed="rId1"/>
          <a:stretch/>
        </p:blipFill>
        <p:spPr>
          <a:xfrm>
            <a:off x="990720" y="198108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rijuana 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6 Year old with 2 year history of daily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d inactivity in the prefrontal lo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emporal lo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6" descr="merrell"/>
          <p:cNvPicPr/>
          <p:nvPr/>
        </p:nvPicPr>
        <p:blipFill>
          <a:blip r:embed="rId1"/>
          <a:stretch/>
        </p:blipFill>
        <p:spPr>
          <a:xfrm>
            <a:off x="1523880" y="2057400"/>
            <a:ext cx="28195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98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98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98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rijuana 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 year old with 3 year history of 4X a week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7" descr="!dukker"/>
          <p:cNvPicPr/>
          <p:nvPr/>
        </p:nvPicPr>
        <p:blipFill>
          <a:blip r:embed="rId1"/>
          <a:stretch/>
        </p:blipFill>
        <p:spPr>
          <a:xfrm>
            <a:off x="1371600" y="2590920"/>
            <a:ext cx="220968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9T23:00:03Z</dcterms:created>
  <dc:creator> Jean Madigan</dc:creator>
  <dc:description/>
  <dc:language>en-US</dc:language>
  <cp:lastModifiedBy>Jean Madigan</cp:lastModifiedBy>
  <dcterms:modified xsi:type="dcterms:W3CDTF">2009-11-12T22:07:00Z</dcterms:modified>
  <cp:revision>24</cp:revision>
  <dc:subject/>
  <dc:title>Brain Imaging Technology</dc:title>
</cp:coreProperties>
</file>