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20E6-A86A-46EC-8F7B-F39D89CC879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9B4E-FADE-4C05-A109-3C6BEFBFE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A7E0-1FDF-45BA-B35D-A954A61AC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oner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Fun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 ta 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42BE-DC8A-49D1-9587-06659662B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BCC4-BB18-430D-9F3A-270958F72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0D8-EDF1-48D1-8707-E9342093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8E1-8F63-47C8-85E8-E9CF6BC4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B3D-E097-4313-92D3-C4ADA561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A0B-CBAE-45DC-AADA-B510FEA5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E7C6-D4E1-472C-8451-2B1AFF30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7F6B-60BC-4875-AAFA-2E111C0E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D874-2E6B-4B04-85F9-E9D01170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B0E8-0D2E-4ACF-A030-23D06D02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68D9-B869-4443-9EE2-F60830FC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EDC4-5EEF-4C13-9B3F-13AFE3F7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5812-F796-4C05-9257-8E8959C0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D77-4724-4878-ADA2-C71D7F5E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A4A0-3B9A-4DD7-BCD4-CF1C5F3C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2191-FC53-45C0-9315-AFC3353A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9BD9-276B-4CCF-8964-7A10DA2B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98BE-1D9F-4636-95B2-554337A9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B828-DCFD-4C6C-88A9-81BFC6C4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30F-3618-4B43-9B48-4343E9D9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B4D-14AF-4C3F-A706-76D7B81D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E7E-1F00-4688-A3EF-3577E134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1A2-EF88-45EA-B9CC-37CCD24B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0FB-8969-433F-852F-F6AE765B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89B-14CA-4FDE-BE74-86F8FBCE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065-FE1B-4A27-8206-2C855988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940D-1834-41BE-8517-CE0CBFEF9DC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EB28-F22C-484D-8D68-80D41756B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6FFD-62F6-4D3B-BBC2-D8D3DAD2814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3DF7-EA4B-49E8-9AC8-8937D035B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jean@actionbasedlearning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209680"/>
            <a:ext cx="6400800" cy="22860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uilding Better Brains Through PE </a:t>
            </a:r>
            <a:br>
              <a:rPr sz="4400"/>
            </a:b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ction Based Learning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Jean Blay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13" descr="MCAN04429_0000[1]"/>
          <p:cNvPicPr/>
          <p:nvPr/>
        </p:nvPicPr>
        <p:blipFill>
          <a:blip r:embed="rId1"/>
          <a:stretch/>
        </p:blipFill>
        <p:spPr>
          <a:xfrm rot="16200000">
            <a:off x="20739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MCAN04429_0000[1]"/>
          <p:cNvPicPr/>
          <p:nvPr/>
        </p:nvPicPr>
        <p:blipFill>
          <a:blip r:embed="rId2"/>
          <a:stretch/>
        </p:blipFill>
        <p:spPr>
          <a:xfrm rot="16200000">
            <a:off x="3292920" y="516600"/>
            <a:ext cx="725760" cy="911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MCAN04429_0000[1]"/>
          <p:cNvPicPr/>
          <p:nvPr/>
        </p:nvPicPr>
        <p:blipFill>
          <a:blip r:embed="rId3"/>
          <a:stretch/>
        </p:blipFill>
        <p:spPr>
          <a:xfrm rot="16200000">
            <a:off x="45885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MCAN04429_0000[1]"/>
          <p:cNvPicPr/>
          <p:nvPr/>
        </p:nvPicPr>
        <p:blipFill>
          <a:blip r:embed="rId4"/>
          <a:stretch/>
        </p:blipFill>
        <p:spPr>
          <a:xfrm rot="16200000">
            <a:off x="57315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MCAN04429_0000[1]"/>
          <p:cNvPicPr/>
          <p:nvPr/>
        </p:nvPicPr>
        <p:blipFill>
          <a:blip r:embed="rId5"/>
          <a:stretch/>
        </p:blipFill>
        <p:spPr>
          <a:xfrm rot="16200000">
            <a:off x="7099920" y="516600"/>
            <a:ext cx="725760" cy="911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MCAN04429_0000[1]"/>
          <p:cNvPicPr/>
          <p:nvPr/>
        </p:nvPicPr>
        <p:blipFill>
          <a:blip r:embed="rId6"/>
          <a:stretch/>
        </p:blipFill>
        <p:spPr>
          <a:xfrm rot="16200000">
            <a:off x="699120" y="516600"/>
            <a:ext cx="72576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eparing the Brain for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s are hard-wired for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6 emo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JOY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ANGER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DISGUST 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SADNESS 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FEAR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l other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motio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MUST be taught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operation 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atie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Understand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Empath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orgivenes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olera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spec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sponsibili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atriotism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ar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har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ri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ndorphin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ves pain, starts hea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rotonin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hhhhhh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rtisol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ke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oradrenalin/Norephenephrin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y attention!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pamine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w! Better take actio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ild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es the brain gr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ges of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fore bir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ual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mmy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lling o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aw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1" name="Macintosh HD:Users:jeanmadigan:Desktop:Movies:Max Roll Over.mov" descr="/Users/jeanmadigan/Desktop/Movies/Max Roll Over.mov"/>
          <p:cNvPicPr/>
          <p:nvPr/>
        </p:nvPicPr>
        <p:blipFill>
          <a:blip r:embed="rId1"/>
          <a:stretch/>
        </p:blipFill>
        <p:spPr>
          <a:xfrm>
            <a:off x="1287360" y="1828800"/>
            <a:ext cx="6492960" cy="3657600"/>
          </a:xfrm>
          <a:prstGeom prst="rect">
            <a:avLst/>
          </a:prstGeom>
          <a:ln w="0">
            <a:noFill/>
          </a:ln>
        </p:spPr>
      </p:pic>
      <p:sp>
        <p:nvSpPr>
          <p:cNvPr id="362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Craw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4" name="Macintosh HD:Users:jeanmadigan:Desktop:Power points for show:max crawl.mov" descr="/Users/jeanmadigan/Desktop/max crawl.mov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365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Wal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8" name="Macintosh HD:Users:jeanmadigan:Documents:My Pictures:Max walking.mov" descr="/Users/jeanmadigan/Documents/My Pictures/Max walking.mov"/>
          <p:cNvPicPr/>
          <p:nvPr/>
        </p:nvPicPr>
        <p:blipFill>
          <a:blip r:embed="rId1"/>
          <a:stretch/>
        </p:blipFill>
        <p:spPr>
          <a:xfrm>
            <a:off x="3505320" y="1828800"/>
            <a:ext cx="2057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400800" cy="327672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entional Movement  can prepare the brain for optimal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549080" y="4911120"/>
            <a:ext cx="60325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start with the bra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Content Placeholder 13" descr="Real brain.jpg"/>
          <p:cNvPicPr/>
          <p:nvPr/>
        </p:nvPicPr>
        <p:blipFill>
          <a:blip r:embed="rId1"/>
          <a:srcRect l="-40417" t="0" r="-40417" b="0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 Lis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hysical Fitness/Nutr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ross Lateraliz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tor Skil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et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isu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cking and Ocular Pursu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nsory Integ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motio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afe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et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e believe i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Quality PE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give the student an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dvantag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o lear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Healthy, active students make better learn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190512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w isn’t THAT a reason for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ILY QUALITY P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549080" y="4190760"/>
            <a:ext cx="6032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ught by a professional with all the equipment and all the facilities we ne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as a drug, the warning label might read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rning: the Surgeon General has determined tha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very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ENEFICIA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your health causing possibl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REVEN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diseases such as heart attack, stroke, cancer, Alzheimer's, Parkinson's. Possible side effects ar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 healthy body and a healthy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r more information contact Jean Blay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jean@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9" name="Group 2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0" name="AutoShape 3"/>
            <p:cNvSpPr/>
            <p:nvPr/>
          </p:nvSpPr>
          <p:spPr>
            <a:xfrm>
              <a:off x="280800" y="281160"/>
              <a:ext cx="3571920" cy="16146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752400" y="546120"/>
              <a:ext cx="2361960" cy="14590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3" name="Group 6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4" name="AutoShape 7"/>
              <p:cNvSpPr/>
              <p:nvPr/>
            </p:nvSpPr>
            <p:spPr>
              <a:xfrm>
                <a:off x="3182760" y="1482840"/>
                <a:ext cx="336600" cy="33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AutoShape 8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AutoShape 9"/>
              <p:cNvSpPr/>
              <p:nvPr/>
            </p:nvSpPr>
            <p:spPr>
              <a:xfrm>
                <a:off x="514080" y="250920"/>
                <a:ext cx="2676600" cy="9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AutoShape 10"/>
              <p:cNvSpPr/>
              <p:nvPr/>
            </p:nvSpPr>
            <p:spPr>
              <a:xfrm>
                <a:off x="649080" y="397080"/>
                <a:ext cx="360360" cy="65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AutoShape 11"/>
              <p:cNvSpPr/>
              <p:nvPr/>
            </p:nvSpPr>
            <p:spPr>
              <a:xfrm>
                <a:off x="134280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9" name="Group 12"/>
          <p:cNvGrpSpPr/>
          <p:nvPr/>
        </p:nvGrpSpPr>
        <p:grpSpPr>
          <a:xfrm>
            <a:off x="7704000" y="4233240"/>
            <a:ext cx="1166040" cy="1327680"/>
            <a:chOff x="7704000" y="4233240"/>
            <a:chExt cx="1166040" cy="1327680"/>
          </a:xfrm>
        </p:grpSpPr>
        <p:sp>
          <p:nvSpPr>
            <p:cNvPr id="180" name="AutoShape 13"/>
            <p:cNvSpPr/>
            <p:nvPr/>
          </p:nvSpPr>
          <p:spPr>
            <a:xfrm rot="7320000">
              <a:off x="7792200" y="4658040"/>
              <a:ext cx="997200" cy="4654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 rot="7320000">
              <a:off x="7767360" y="4638240"/>
              <a:ext cx="993600" cy="4608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 rot="7320000">
              <a:off x="7933680" y="4622760"/>
              <a:ext cx="660240" cy="4212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3" name="Group 16"/>
            <p:cNvGrpSpPr/>
            <p:nvPr/>
          </p:nvGrpSpPr>
          <p:grpSpPr>
            <a:xfrm>
              <a:off x="7704000" y="4233240"/>
              <a:ext cx="1166040" cy="1327680"/>
              <a:chOff x="7704000" y="4233240"/>
              <a:chExt cx="1166040" cy="1327680"/>
            </a:xfrm>
          </p:grpSpPr>
          <p:sp>
            <p:nvSpPr>
              <p:cNvPr id="184" name="AutoShape 17"/>
              <p:cNvSpPr/>
              <p:nvPr/>
            </p:nvSpPr>
            <p:spPr>
              <a:xfrm rot="7320000">
                <a:off x="7808400" y="5068440"/>
                <a:ext cx="102240" cy="12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 rot="7320000">
                <a:off x="7707600" y="4571280"/>
                <a:ext cx="1158480" cy="65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AutoShape 19"/>
              <p:cNvSpPr/>
              <p:nvPr/>
            </p:nvSpPr>
            <p:spPr>
              <a:xfrm rot="7320000">
                <a:off x="8038440" y="4712040"/>
                <a:ext cx="821160" cy="36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AutoShape 20"/>
              <p:cNvSpPr/>
              <p:nvPr/>
            </p:nvSpPr>
            <p:spPr>
              <a:xfrm rot="7320000">
                <a:off x="8597880" y="4506120"/>
                <a:ext cx="109440" cy="24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AutoShape 21"/>
              <p:cNvSpPr/>
              <p:nvPr/>
            </p:nvSpPr>
            <p:spPr>
              <a:xfrm rot="7320000">
                <a:off x="8145000" y="4729320"/>
                <a:ext cx="335520" cy="21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9" name="Freeform 22"/>
          <p:cNvSpPr/>
          <p:nvPr/>
        </p:nvSpPr>
        <p:spPr>
          <a:xfrm>
            <a:off x="901800" y="5054760"/>
            <a:ext cx="6807240" cy="72360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Freeform 23"/>
          <p:cNvSpPr/>
          <p:nvPr/>
        </p:nvSpPr>
        <p:spPr>
          <a:xfrm>
            <a:off x="4076640" y="1952640"/>
            <a:ext cx="889200" cy="35712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7353360" y="6248520"/>
            <a:ext cx="303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BF5D-B82E-4210-8D0B-5A9B9D57FACE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3784680"/>
          </a:xfrm>
          <a:prstGeom prst="rect">
            <a:avLst/>
          </a:prstGeom>
          <a:noFill/>
          <a:ln w="0">
            <a:noFill/>
          </a:ln>
          <a:effectLst>
            <a:outerShdw dist="50638" dir="2109532" blurRad="0" rotWithShape="0">
              <a:srgbClr val="ffb800">
                <a:alpha val="75000"/>
              </a:srgbClr>
            </a:outerShdw>
          </a:effectLst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n you change a BRA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27176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al Plastic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8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7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9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0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1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2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5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6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24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5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7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228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229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30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231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3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4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5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6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7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8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39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40" name="Picture 47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5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4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5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56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9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2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3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8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9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71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72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4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275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276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7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278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6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Neural Plast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bility of the brain to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rain changes throughout a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erci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reates the optimal environment for the brain to create new brain cells and protect and build the existing ones. (Rate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ercise benefits the BRAIN fir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Exerci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brain at a       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OLECULAR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el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gluco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eurogenes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ar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endritic branch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DN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Neurotransmit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5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4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5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306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9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12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3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0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21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2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4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325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326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7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328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0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4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5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36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Good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EW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put the body and brain in balanc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utri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xerci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W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ate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leep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2057400"/>
            <a:ext cx="6400800" cy="196848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Brain is only as Healthy as the Body that carries 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lthy, Active KIDS make better Learners!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ercise Grow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 Ce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Picture 6" descr="Eli on hoppity hop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9:31:15Z</dcterms:created>
  <dc:creator>satterba</dc:creator>
  <dc:description/>
  <dc:language>en-US</dc:language>
  <cp:lastModifiedBy>Jean Madigan</cp:lastModifiedBy>
  <dcterms:modified xsi:type="dcterms:W3CDTF">2013-03-26T19:55:18Z</dcterms:modified>
  <cp:revision>41</cp:revision>
  <dc:subject/>
  <dc:title>Slide 1</dc:title>
</cp:coreProperties>
</file>