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9306-9433-4B1A-97CA-87D9BA9D735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E8E8-0C7E-4505-9122-3B768970C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39F3-8842-4CFD-8DB2-FE1528127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oner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Fun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 ta 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B257-F237-4565-8B90-CAE9025EC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677B-2543-45CF-8F1D-988E8F929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ED2-B4E3-4FBB-BE6E-8A2B5FB7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49E-2308-4AAE-827D-557331B6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883-9112-4850-ADFD-E86314D0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2246-C50C-4732-99EC-6DF6E07E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015E-068F-4DA1-9641-5A2073A3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00B7-3454-4B09-87FE-61D31DFF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DA92-64FF-4543-B481-CBFC5DF3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F81B-86A3-46AD-9DB2-17BF0088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9785-ED2E-4FDE-81EF-631315F4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846E-8045-40E8-9466-EE4909F4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F783-80CA-42C6-A19A-10F16296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D03-FF11-4D91-BBBC-37E9FD23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62FA-F612-4F2F-8C08-C11F1D6F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2CC2-6D36-4B99-9C5D-99099FDE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54D6-0432-4516-B2BB-F6AC86EC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307C-F7FF-4BA9-959F-C0DEC67F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B166-152B-4123-9FC5-C9794B32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C142-6809-4AA0-80A1-7D9AF080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3578-A49D-4B07-BA63-99DEC774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E63B-B906-4641-A5BB-3483D064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CF1-1A10-45DE-906D-23D4D7AD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E58E-3F80-4801-AC6E-0913C938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2B2-A5A2-464C-BB88-48E9140F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7DC-F9F6-4053-AFDF-1FE6FD65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BFB3-A494-474D-9630-9BD313243CA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A976-5533-48FD-B184-F590DC576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2E91-D382-4756-ABC9-172613DF1F3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15ED-DA10-413D-B12F-0604FF208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jean@actionbasedlearning.com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209680"/>
            <a:ext cx="6400800" cy="22860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uilding Better Brains Through PE </a:t>
            </a:r>
            <a:br>
              <a:rPr sz="4400"/>
            </a:b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ction Based Learning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Jean Blay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13" descr="MCAN04429_0000[1]"/>
          <p:cNvPicPr/>
          <p:nvPr/>
        </p:nvPicPr>
        <p:blipFill>
          <a:blip r:embed="rId1"/>
          <a:stretch/>
        </p:blipFill>
        <p:spPr>
          <a:xfrm rot="16200000">
            <a:off x="2073960" y="516600"/>
            <a:ext cx="725760" cy="911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MCAN04429_0000[1]"/>
          <p:cNvPicPr/>
          <p:nvPr/>
        </p:nvPicPr>
        <p:blipFill>
          <a:blip r:embed="rId2"/>
          <a:stretch/>
        </p:blipFill>
        <p:spPr>
          <a:xfrm rot="16200000">
            <a:off x="3292920" y="516600"/>
            <a:ext cx="725760" cy="911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MCAN04429_0000[1]"/>
          <p:cNvPicPr/>
          <p:nvPr/>
        </p:nvPicPr>
        <p:blipFill>
          <a:blip r:embed="rId3"/>
          <a:stretch/>
        </p:blipFill>
        <p:spPr>
          <a:xfrm rot="16200000">
            <a:off x="4588560" y="516600"/>
            <a:ext cx="725760" cy="911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MCAN04429_0000[1]"/>
          <p:cNvPicPr/>
          <p:nvPr/>
        </p:nvPicPr>
        <p:blipFill>
          <a:blip r:embed="rId4"/>
          <a:stretch/>
        </p:blipFill>
        <p:spPr>
          <a:xfrm rot="16200000">
            <a:off x="5731560" y="516600"/>
            <a:ext cx="725760" cy="911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MCAN04429_0000[1]"/>
          <p:cNvPicPr/>
          <p:nvPr/>
        </p:nvPicPr>
        <p:blipFill>
          <a:blip r:embed="rId5"/>
          <a:stretch/>
        </p:blipFill>
        <p:spPr>
          <a:xfrm rot="16200000">
            <a:off x="7099920" y="516600"/>
            <a:ext cx="725760" cy="911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MCAN04429_0000[1]"/>
          <p:cNvPicPr/>
          <p:nvPr/>
        </p:nvPicPr>
        <p:blipFill>
          <a:blip r:embed="rId6"/>
          <a:stretch/>
        </p:blipFill>
        <p:spPr>
          <a:xfrm rot="16200000">
            <a:off x="699120" y="516600"/>
            <a:ext cx="72576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eparing the Brain for 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ins are hard-wired for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6 emo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JOY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ANGER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SURPRISE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DISGUST 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SADNESS 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FEAR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l other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motion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MUST be taught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operation 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atienc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Understand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Empath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Forgivenes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oleranc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espec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esponsibili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atriotism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ar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har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ri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ndorphin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ieves pain, starts hea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rotonin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hhhhhh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rtisol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ike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oradrenalin/Norephenephrine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y attention!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pamine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w! Better take actio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ild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es the brain grow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ges of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fore bir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ual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ummy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lling o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aw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1" name="Macintosh HD:Users:jeanmadigan:Desktop:Movies:Max Roll Over.mov" descr="/Users/jeanmadigan/Desktop/Movies/Max Roll Over.mov"/>
          <p:cNvPicPr/>
          <p:nvPr/>
        </p:nvPicPr>
        <p:blipFill>
          <a:blip r:embed="rId1"/>
          <a:stretch/>
        </p:blipFill>
        <p:spPr>
          <a:xfrm>
            <a:off x="1287360" y="1828800"/>
            <a:ext cx="6492960" cy="3657600"/>
          </a:xfrm>
          <a:prstGeom prst="rect">
            <a:avLst/>
          </a:prstGeom>
          <a:ln w="0">
            <a:noFill/>
          </a:ln>
        </p:spPr>
      </p:pic>
      <p:sp>
        <p:nvSpPr>
          <p:cNvPr id="362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Craw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4" name="Macintosh HD:Users:jeanmadigan:Desktop:Power points for show:max crawl.mov" descr="/Users/jeanmadigan/Desktop/max crawl.mov"/>
          <p:cNvPicPr/>
          <p:nvPr/>
        </p:nvPicPr>
        <p:blipFill>
          <a:blip r:embed="rId1"/>
          <a:stretch/>
        </p:blipFill>
        <p:spPr>
          <a:xfrm>
            <a:off x="2095560" y="18288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365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Wal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8" name="Macintosh HD:Users:jeanmadigan:Documents:My Pictures:Max walking.mov" descr="/Users/jeanmadigan/Documents/My Pictures/Max walking.mov"/>
          <p:cNvPicPr/>
          <p:nvPr/>
        </p:nvPicPr>
        <p:blipFill>
          <a:blip r:embed="rId1"/>
          <a:stretch/>
        </p:blipFill>
        <p:spPr>
          <a:xfrm>
            <a:off x="3505320" y="1828800"/>
            <a:ext cx="2057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400800" cy="327672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tentional Movement  can prepare the brain for optimal 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549080" y="4911120"/>
            <a:ext cx="603252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start with the brai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Content Placeholder 13" descr="Real brain.jpg"/>
          <p:cNvPicPr/>
          <p:nvPr/>
        </p:nvPicPr>
        <p:blipFill>
          <a:blip r:embed="rId1"/>
          <a:srcRect l="-40417" t="0" r="-40417" b="0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 Lis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hysical Fitness/Nutr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ross Lateraliz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tor Skil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hyth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peten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isua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cking and Ocular Pursu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nsory Integ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motion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afe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peten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e believe i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Quality PE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n give the student an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dvantag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o lear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Healthy, active students make better learn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2640" y="1905120"/>
            <a:ext cx="6629400" cy="22860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w isn’t THAT a reason for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AILY QUALITY P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549080" y="4190760"/>
            <a:ext cx="6032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ught by a professional with all the equipment and all the facilities we ne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as a drug, the warning label might read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rning: the Surgeon General has determined tha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very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ENEFICIA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your health causing possible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REVEN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diseases such as heart attack, stroke, cancer, Alzheimer's, Parkinson's. Possible side effects ar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 healthy body and a healthy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r more information contact Jean Blay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jean@actionbasedlearning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9" name="Group 2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0" name="AutoShape 3"/>
            <p:cNvSpPr/>
            <p:nvPr/>
          </p:nvSpPr>
          <p:spPr>
            <a:xfrm>
              <a:off x="280800" y="281160"/>
              <a:ext cx="3571920" cy="16146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AutoShape 5"/>
            <p:cNvSpPr/>
            <p:nvPr/>
          </p:nvSpPr>
          <p:spPr>
            <a:xfrm>
              <a:off x="752400" y="546120"/>
              <a:ext cx="2361960" cy="14590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3" name="Group 6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4" name="AutoShape 7"/>
              <p:cNvSpPr/>
              <p:nvPr/>
            </p:nvSpPr>
            <p:spPr>
              <a:xfrm>
                <a:off x="3182760" y="1482840"/>
                <a:ext cx="336600" cy="33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AutoShape 8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AutoShape 9"/>
              <p:cNvSpPr/>
              <p:nvPr/>
            </p:nvSpPr>
            <p:spPr>
              <a:xfrm>
                <a:off x="514080" y="250920"/>
                <a:ext cx="2676600" cy="9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AutoShape 10"/>
              <p:cNvSpPr/>
              <p:nvPr/>
            </p:nvSpPr>
            <p:spPr>
              <a:xfrm>
                <a:off x="649080" y="397080"/>
                <a:ext cx="360360" cy="65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AutoShape 11"/>
              <p:cNvSpPr/>
              <p:nvPr/>
            </p:nvSpPr>
            <p:spPr>
              <a:xfrm>
                <a:off x="134280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9" name="Group 12"/>
          <p:cNvGrpSpPr/>
          <p:nvPr/>
        </p:nvGrpSpPr>
        <p:grpSpPr>
          <a:xfrm>
            <a:off x="7704000" y="4233240"/>
            <a:ext cx="1166040" cy="1327680"/>
            <a:chOff x="7704000" y="4233240"/>
            <a:chExt cx="1166040" cy="1327680"/>
          </a:xfrm>
        </p:grpSpPr>
        <p:sp>
          <p:nvSpPr>
            <p:cNvPr id="180" name="AutoShape 13"/>
            <p:cNvSpPr/>
            <p:nvPr/>
          </p:nvSpPr>
          <p:spPr>
            <a:xfrm rot="7320000">
              <a:off x="7792200" y="4658040"/>
              <a:ext cx="997200" cy="4654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AutoShape 14"/>
            <p:cNvSpPr/>
            <p:nvPr/>
          </p:nvSpPr>
          <p:spPr>
            <a:xfrm rot="7320000">
              <a:off x="7767360" y="4638240"/>
              <a:ext cx="993600" cy="4608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AutoShape 15"/>
            <p:cNvSpPr/>
            <p:nvPr/>
          </p:nvSpPr>
          <p:spPr>
            <a:xfrm rot="7320000">
              <a:off x="7933680" y="4622760"/>
              <a:ext cx="660240" cy="4212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3" name="Group 16"/>
            <p:cNvGrpSpPr/>
            <p:nvPr/>
          </p:nvGrpSpPr>
          <p:grpSpPr>
            <a:xfrm>
              <a:off x="7704000" y="4233240"/>
              <a:ext cx="1166040" cy="1327680"/>
              <a:chOff x="7704000" y="4233240"/>
              <a:chExt cx="1166040" cy="1327680"/>
            </a:xfrm>
          </p:grpSpPr>
          <p:sp>
            <p:nvSpPr>
              <p:cNvPr id="184" name="AutoShape 17"/>
              <p:cNvSpPr/>
              <p:nvPr/>
            </p:nvSpPr>
            <p:spPr>
              <a:xfrm rot="7320000">
                <a:off x="7808400" y="5068440"/>
                <a:ext cx="102240" cy="12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AutoShape 18"/>
              <p:cNvSpPr/>
              <p:nvPr/>
            </p:nvSpPr>
            <p:spPr>
              <a:xfrm rot="7320000">
                <a:off x="7707600" y="4571280"/>
                <a:ext cx="1158480" cy="65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AutoShape 19"/>
              <p:cNvSpPr/>
              <p:nvPr/>
            </p:nvSpPr>
            <p:spPr>
              <a:xfrm rot="7320000">
                <a:off x="8038440" y="4712040"/>
                <a:ext cx="821160" cy="36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AutoShape 20"/>
              <p:cNvSpPr/>
              <p:nvPr/>
            </p:nvSpPr>
            <p:spPr>
              <a:xfrm rot="7320000">
                <a:off x="8597880" y="4506120"/>
                <a:ext cx="109440" cy="24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AutoShape 21"/>
              <p:cNvSpPr/>
              <p:nvPr/>
            </p:nvSpPr>
            <p:spPr>
              <a:xfrm rot="7320000">
                <a:off x="8145000" y="4729320"/>
                <a:ext cx="335520" cy="21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9" name="Freeform 22"/>
          <p:cNvSpPr/>
          <p:nvPr/>
        </p:nvSpPr>
        <p:spPr>
          <a:xfrm>
            <a:off x="901800" y="5054760"/>
            <a:ext cx="6807240" cy="72360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Freeform 23"/>
          <p:cNvSpPr/>
          <p:nvPr/>
        </p:nvSpPr>
        <p:spPr>
          <a:xfrm>
            <a:off x="4076640" y="1952640"/>
            <a:ext cx="889200" cy="35712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7353360" y="6248520"/>
            <a:ext cx="303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55E1-0B35-412F-9DE0-85729C14A68B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400800" cy="3784680"/>
          </a:xfrm>
          <a:prstGeom prst="rect">
            <a:avLst/>
          </a:prstGeom>
          <a:noFill/>
          <a:ln w="0">
            <a:noFill/>
          </a:ln>
          <a:effectLst>
            <a:outerShdw dist="50638" dir="2109532" blurRad="0" rotWithShape="0">
              <a:srgbClr val="ffb800">
                <a:alpha val="75000"/>
              </a:srgbClr>
            </a:outerShdw>
          </a:effectLst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n you change a BRAI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27176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al Plastic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1"/>
          <p:cNvSpPr/>
          <p:nvPr/>
        </p:nvSpPr>
        <p:spPr>
          <a:xfrm rot="18420000">
            <a:off x="7776720" y="-15480"/>
            <a:ext cx="1162080" cy="208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2"/>
          <p:cNvSpPr/>
          <p:nvPr/>
        </p:nvSpPr>
        <p:spPr>
          <a:xfrm rot="18420000">
            <a:off x="7863480" y="2088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3"/>
          <p:cNvSpPr/>
          <p:nvPr/>
        </p:nvSpPr>
        <p:spPr>
          <a:xfrm rot="18420000">
            <a:off x="7831080" y="190440"/>
            <a:ext cx="102528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8" name="AutoShape 5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AutoShape 6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AutoShape 7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AutoShape 8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AutoShape 9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AutoShape 10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AutoShape 11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AutoShape 12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7" name="Group 14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8" name="Group 15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9" name="AutoShape 16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0" name="AutoShape 17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1" name="AutoShape 18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12" name="AutoShape 19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AutoShape 20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AutoShape 21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15" name="Group 22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6" name="AutoShape 23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" name="AutoShape 24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" name="AutoShape 25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" name="AutoShape 26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AutoShape 27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AutoShape 28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AutoShape 29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AutoShape 30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24" name="Group 31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5" name="AutoShape 32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AutoShape 33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7" name="Group 34"/>
          <p:cNvGrpSpPr/>
          <p:nvPr/>
        </p:nvGrpSpPr>
        <p:grpSpPr>
          <a:xfrm>
            <a:off x="6890760" y="-141840"/>
            <a:ext cx="2987280" cy="2853000"/>
            <a:chOff x="6890760" y="-141840"/>
            <a:chExt cx="2987280" cy="2853000"/>
          </a:xfrm>
        </p:grpSpPr>
        <p:grpSp>
          <p:nvGrpSpPr>
            <p:cNvPr id="228" name="Group 35"/>
            <p:cNvGrpSpPr/>
            <p:nvPr/>
          </p:nvGrpSpPr>
          <p:grpSpPr>
            <a:xfrm>
              <a:off x="6890760" y="-141840"/>
              <a:ext cx="2987280" cy="2853000"/>
              <a:chOff x="6890760" y="-141840"/>
              <a:chExt cx="2987280" cy="2853000"/>
            </a:xfrm>
          </p:grpSpPr>
          <p:sp>
            <p:nvSpPr>
              <p:cNvPr id="229" name="AutoShape 36"/>
              <p:cNvSpPr/>
              <p:nvPr/>
            </p:nvSpPr>
            <p:spPr>
              <a:xfrm rot="18420000">
                <a:off x="8618400" y="172188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30" name="Group 37"/>
              <p:cNvGrpSpPr/>
              <p:nvPr/>
            </p:nvGrpSpPr>
            <p:grpSpPr>
              <a:xfrm>
                <a:off x="6890760" y="-141840"/>
                <a:ext cx="2987280" cy="2853000"/>
                <a:chOff x="6890760" y="-141840"/>
                <a:chExt cx="2987280" cy="2853000"/>
              </a:xfrm>
            </p:grpSpPr>
            <p:sp>
              <p:nvSpPr>
                <p:cNvPr id="231" name="AutoShape 38"/>
                <p:cNvSpPr/>
                <p:nvPr/>
              </p:nvSpPr>
              <p:spPr>
                <a:xfrm rot="18420000">
                  <a:off x="7775280" y="-22320"/>
                  <a:ext cx="3520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" name="AutoShape 39"/>
                <p:cNvSpPr/>
                <p:nvPr/>
              </p:nvSpPr>
              <p:spPr>
                <a:xfrm rot="18420000">
                  <a:off x="7921080" y="621720"/>
                  <a:ext cx="61848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3" name="AutoShape 40"/>
                <p:cNvSpPr/>
                <p:nvPr/>
              </p:nvSpPr>
              <p:spPr>
                <a:xfrm rot="18420000">
                  <a:off x="7520040" y="388080"/>
                  <a:ext cx="116136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4" name="AutoShape 41"/>
                <p:cNvSpPr/>
                <p:nvPr/>
              </p:nvSpPr>
              <p:spPr>
                <a:xfrm rot="18420000">
                  <a:off x="7512480" y="71280"/>
                  <a:ext cx="17434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5" name="AutoShape 42"/>
                <p:cNvSpPr/>
                <p:nvPr/>
              </p:nvSpPr>
              <p:spPr>
                <a:xfrm rot="18420000">
                  <a:off x="8393760" y="1842480"/>
                  <a:ext cx="3884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6" name="AutoShape 43"/>
                <p:cNvSpPr/>
                <p:nvPr/>
              </p:nvSpPr>
              <p:spPr>
                <a:xfrm rot="18420000">
                  <a:off x="8286480" y="1639080"/>
                  <a:ext cx="41616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7" name="AutoShape 44"/>
                <p:cNvSpPr/>
                <p:nvPr/>
              </p:nvSpPr>
              <p:spPr>
                <a:xfrm rot="18420000">
                  <a:off x="7802640" y="302400"/>
                  <a:ext cx="41616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8" name="AutoShape 45"/>
                <p:cNvSpPr/>
                <p:nvPr/>
              </p:nvSpPr>
              <p:spPr>
                <a:xfrm rot="18420000">
                  <a:off x="7759440" y="110520"/>
                  <a:ext cx="4114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39" name="Line 46"/>
            <p:cNvSpPr/>
            <p:nvPr/>
          </p:nvSpPr>
          <p:spPr>
            <a:xfrm>
              <a:off x="7729560" y="133200"/>
              <a:ext cx="6660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40" name="Picture 47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1"/>
          <p:cNvSpPr/>
          <p:nvPr/>
        </p:nvSpPr>
        <p:spPr>
          <a:xfrm rot="18420000">
            <a:off x="7776720" y="-15480"/>
            <a:ext cx="1162080" cy="208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AutoShape 2"/>
          <p:cNvSpPr/>
          <p:nvPr/>
        </p:nvSpPr>
        <p:spPr>
          <a:xfrm rot="18420000">
            <a:off x="7863480" y="2088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AutoShape 3"/>
          <p:cNvSpPr/>
          <p:nvPr/>
        </p:nvSpPr>
        <p:spPr>
          <a:xfrm rot="18420000">
            <a:off x="7831080" y="190440"/>
            <a:ext cx="102528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4" name="Group 4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5" name="AutoShape 5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AutoShape 6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AutoShape 7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8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AutoShape 9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AutoShape 10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AutoShape 11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AutoShape 12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AutoShape 13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4" name="Group 14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5" name="Group 15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56" name="AutoShape 16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" name="AutoShape 17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AutoShape 18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9" name="AutoShape 19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AutoShape 20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AutoShape 21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2" name="Group 22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3" name="AutoShape 23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AutoShape 24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AutoShape 25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AutoShape 26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AutoShape 27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8" name="AutoShape 28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9" name="AutoShape 29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0" name="AutoShape 30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71" name="Group 31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72" name="AutoShape 32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AutoShape 33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4" name="Group 34"/>
          <p:cNvGrpSpPr/>
          <p:nvPr/>
        </p:nvGrpSpPr>
        <p:grpSpPr>
          <a:xfrm>
            <a:off x="6890760" y="-141840"/>
            <a:ext cx="2987280" cy="2853000"/>
            <a:chOff x="6890760" y="-141840"/>
            <a:chExt cx="2987280" cy="2853000"/>
          </a:xfrm>
        </p:grpSpPr>
        <p:grpSp>
          <p:nvGrpSpPr>
            <p:cNvPr id="275" name="Group 35"/>
            <p:cNvGrpSpPr/>
            <p:nvPr/>
          </p:nvGrpSpPr>
          <p:grpSpPr>
            <a:xfrm>
              <a:off x="6890760" y="-141840"/>
              <a:ext cx="2987280" cy="2853000"/>
              <a:chOff x="6890760" y="-141840"/>
              <a:chExt cx="2987280" cy="2853000"/>
            </a:xfrm>
          </p:grpSpPr>
          <p:sp>
            <p:nvSpPr>
              <p:cNvPr id="276" name="AutoShape 36"/>
              <p:cNvSpPr/>
              <p:nvPr/>
            </p:nvSpPr>
            <p:spPr>
              <a:xfrm rot="18420000">
                <a:off x="8618400" y="172188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7" name="Group 37"/>
              <p:cNvGrpSpPr/>
              <p:nvPr/>
            </p:nvGrpSpPr>
            <p:grpSpPr>
              <a:xfrm>
                <a:off x="6890760" y="-141840"/>
                <a:ext cx="2987280" cy="2853000"/>
                <a:chOff x="6890760" y="-141840"/>
                <a:chExt cx="2987280" cy="2853000"/>
              </a:xfrm>
            </p:grpSpPr>
            <p:sp>
              <p:nvSpPr>
                <p:cNvPr id="278" name="AutoShape 38"/>
                <p:cNvSpPr/>
                <p:nvPr/>
              </p:nvSpPr>
              <p:spPr>
                <a:xfrm rot="18420000">
                  <a:off x="7775280" y="-22320"/>
                  <a:ext cx="3520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AutoShape 39"/>
                <p:cNvSpPr/>
                <p:nvPr/>
              </p:nvSpPr>
              <p:spPr>
                <a:xfrm rot="18420000">
                  <a:off x="7921080" y="621720"/>
                  <a:ext cx="61848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AutoShape 40"/>
                <p:cNvSpPr/>
                <p:nvPr/>
              </p:nvSpPr>
              <p:spPr>
                <a:xfrm rot="18420000">
                  <a:off x="7520040" y="388080"/>
                  <a:ext cx="116136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AutoShape 41"/>
                <p:cNvSpPr/>
                <p:nvPr/>
              </p:nvSpPr>
              <p:spPr>
                <a:xfrm rot="18420000">
                  <a:off x="7512480" y="71280"/>
                  <a:ext cx="17434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AutoShape 42"/>
                <p:cNvSpPr/>
                <p:nvPr/>
              </p:nvSpPr>
              <p:spPr>
                <a:xfrm rot="18420000">
                  <a:off x="8393760" y="1842480"/>
                  <a:ext cx="3884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" name="AutoShape 43"/>
                <p:cNvSpPr/>
                <p:nvPr/>
              </p:nvSpPr>
              <p:spPr>
                <a:xfrm rot="18420000">
                  <a:off x="8286480" y="1639080"/>
                  <a:ext cx="41616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" name="AutoShape 44"/>
                <p:cNvSpPr/>
                <p:nvPr/>
              </p:nvSpPr>
              <p:spPr>
                <a:xfrm rot="18420000">
                  <a:off x="7802640" y="302400"/>
                  <a:ext cx="41616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" name="AutoShape 45"/>
                <p:cNvSpPr/>
                <p:nvPr/>
              </p:nvSpPr>
              <p:spPr>
                <a:xfrm rot="18420000">
                  <a:off x="7759440" y="110520"/>
                  <a:ext cx="4114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6" name="Line 46"/>
            <p:cNvSpPr/>
            <p:nvPr/>
          </p:nvSpPr>
          <p:spPr>
            <a:xfrm>
              <a:off x="7729560" y="133200"/>
              <a:ext cx="6660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Neural Plast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bility of the brain to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rain changes throughout a life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erci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reates the optimal environment for the brain to create new brain cells and protect and build the existing ones. (Rate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ercise benefits the BRAIN fir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Exerci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nges the brain at a       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OLECULAR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el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gluco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Neurogenes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ar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endritic branch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DN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Neurotransmitt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1"/>
          <p:cNvSpPr/>
          <p:nvPr/>
        </p:nvSpPr>
        <p:spPr>
          <a:xfrm rot="18420000">
            <a:off x="7776720" y="-15480"/>
            <a:ext cx="1162080" cy="208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AutoShape 2"/>
          <p:cNvSpPr/>
          <p:nvPr/>
        </p:nvSpPr>
        <p:spPr>
          <a:xfrm rot="18420000">
            <a:off x="7863480" y="2088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AutoShape 3"/>
          <p:cNvSpPr/>
          <p:nvPr/>
        </p:nvSpPr>
        <p:spPr>
          <a:xfrm rot="18420000">
            <a:off x="7831080" y="190440"/>
            <a:ext cx="102528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95" name="AutoShape 5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AutoShape 6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AutoShape 7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AutoShape 8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AutoShape 9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AutoShape 10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AutoShape 11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AutoShape 12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AutoShape 13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4" name="Group 14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05" name="Group 15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306" name="AutoShape 16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7" name="AutoShape 17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AutoShape 18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09" name="AutoShape 19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AutoShape 20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AutoShape 21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12" name="Group 22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13" name="AutoShape 23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AutoShape 24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AutoShape 25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AutoShape 26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" name="AutoShape 27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AutoShape 28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AutoShape 29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0" name="AutoShape 30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21" name="Group 31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22" name="AutoShape 32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AutoShape 33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4" name="Group 34"/>
          <p:cNvGrpSpPr/>
          <p:nvPr/>
        </p:nvGrpSpPr>
        <p:grpSpPr>
          <a:xfrm>
            <a:off x="6890760" y="-141840"/>
            <a:ext cx="2987280" cy="2853000"/>
            <a:chOff x="6890760" y="-141840"/>
            <a:chExt cx="2987280" cy="2853000"/>
          </a:xfrm>
        </p:grpSpPr>
        <p:grpSp>
          <p:nvGrpSpPr>
            <p:cNvPr id="325" name="Group 35"/>
            <p:cNvGrpSpPr/>
            <p:nvPr/>
          </p:nvGrpSpPr>
          <p:grpSpPr>
            <a:xfrm>
              <a:off x="6890760" y="-141840"/>
              <a:ext cx="2987280" cy="2853000"/>
              <a:chOff x="6890760" y="-141840"/>
              <a:chExt cx="2987280" cy="2853000"/>
            </a:xfrm>
          </p:grpSpPr>
          <p:sp>
            <p:nvSpPr>
              <p:cNvPr id="326" name="AutoShape 36"/>
              <p:cNvSpPr/>
              <p:nvPr/>
            </p:nvSpPr>
            <p:spPr>
              <a:xfrm rot="18420000">
                <a:off x="8618400" y="172188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7" name="Group 37"/>
              <p:cNvGrpSpPr/>
              <p:nvPr/>
            </p:nvGrpSpPr>
            <p:grpSpPr>
              <a:xfrm>
                <a:off x="6890760" y="-141840"/>
                <a:ext cx="2987280" cy="2853000"/>
                <a:chOff x="6890760" y="-141840"/>
                <a:chExt cx="2987280" cy="2853000"/>
              </a:xfrm>
            </p:grpSpPr>
            <p:sp>
              <p:nvSpPr>
                <p:cNvPr id="328" name="AutoShape 38"/>
                <p:cNvSpPr/>
                <p:nvPr/>
              </p:nvSpPr>
              <p:spPr>
                <a:xfrm rot="18420000">
                  <a:off x="7775280" y="-22320"/>
                  <a:ext cx="3520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9" name="AutoShape 39"/>
                <p:cNvSpPr/>
                <p:nvPr/>
              </p:nvSpPr>
              <p:spPr>
                <a:xfrm rot="18420000">
                  <a:off x="7921080" y="621720"/>
                  <a:ext cx="61848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0" name="AutoShape 40"/>
                <p:cNvSpPr/>
                <p:nvPr/>
              </p:nvSpPr>
              <p:spPr>
                <a:xfrm rot="18420000">
                  <a:off x="7520040" y="388080"/>
                  <a:ext cx="116136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1" name="AutoShape 41"/>
                <p:cNvSpPr/>
                <p:nvPr/>
              </p:nvSpPr>
              <p:spPr>
                <a:xfrm rot="18420000">
                  <a:off x="7512480" y="71280"/>
                  <a:ext cx="17434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2" name="AutoShape 42"/>
                <p:cNvSpPr/>
                <p:nvPr/>
              </p:nvSpPr>
              <p:spPr>
                <a:xfrm rot="18420000">
                  <a:off x="8393760" y="1842480"/>
                  <a:ext cx="3884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" name="AutoShape 43"/>
                <p:cNvSpPr/>
                <p:nvPr/>
              </p:nvSpPr>
              <p:spPr>
                <a:xfrm rot="18420000">
                  <a:off x="8286480" y="1639080"/>
                  <a:ext cx="41616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4" name="AutoShape 44"/>
                <p:cNvSpPr/>
                <p:nvPr/>
              </p:nvSpPr>
              <p:spPr>
                <a:xfrm rot="18420000">
                  <a:off x="7802640" y="302400"/>
                  <a:ext cx="41616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5" name="AutoShape 45"/>
                <p:cNvSpPr/>
                <p:nvPr/>
              </p:nvSpPr>
              <p:spPr>
                <a:xfrm rot="18420000">
                  <a:off x="7759440" y="110520"/>
                  <a:ext cx="4114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36" name="Line 46"/>
            <p:cNvSpPr/>
            <p:nvPr/>
          </p:nvSpPr>
          <p:spPr>
            <a:xfrm>
              <a:off x="7729560" y="133200"/>
              <a:ext cx="6660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Good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EW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put the body and brain in balance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utri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xercis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W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ater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leep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2057400"/>
            <a:ext cx="6400800" cy="196848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Brain is only as Healthy as the Body that carries i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lthy, Active KIDS make better Learners!!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ercise Grow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in Cel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2" name="Picture 6" descr="Eli on hoppity hop"/>
          <p:cNvPicPr/>
          <p:nvPr/>
        </p:nvPicPr>
        <p:blipFill>
          <a:blip r:embed="rId1"/>
          <a:stretch/>
        </p:blipFill>
        <p:spPr>
          <a:xfrm>
            <a:off x="2095560" y="1828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9:31:15Z</dcterms:created>
  <dc:creator>satterba</dc:creator>
  <dc:description/>
  <dc:language>en-US</dc:language>
  <cp:lastModifiedBy>Jean Madigan</cp:lastModifiedBy>
  <dcterms:modified xsi:type="dcterms:W3CDTF">2013-03-26T19:55:18Z</dcterms:modified>
  <cp:revision>41</cp:revision>
  <dc:subject/>
  <dc:title>Slide 1</dc:title>
</cp:coreProperties>
</file>