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F4EA-04D1-44E2-B2F2-D0073A11C58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C9E2-2873-412C-9678-598FBB955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9292-F94B-4002-B593-70DA3683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oner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Fu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 ta 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505C-E5E3-4C0A-A192-FE33EDCC3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77B0-2F0D-46BD-BB3D-634F9B489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6FE-B590-4FFF-8B38-4DFAEFF2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CF5-BC30-4B6F-A10D-E6DD6861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3DD-E047-4A64-95A2-3F07FB2A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FB2-32F8-46F6-B885-9E24A7AA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DE12-8A62-407F-B55D-B8CA1DF8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0E79-C377-45B8-BCB9-62F42F62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7E1E-AE6B-4973-8DE3-F52E276E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ACBB-E3AF-4567-80EC-CF7DEE85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9DA3-4DE3-4254-87AD-40FF539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1947-AA44-4931-B9DD-39640FD2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830E-8F61-4306-A960-BC96D6AC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4E1-6D1E-4355-8031-73DCBB9A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56B3-8CD4-4F24-AA50-DCC6138C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6338-EBBA-43D6-9699-625BFF77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4321-9AEA-4F07-B6E1-907989DF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75EF-3990-4EB6-9173-4BE15A24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4412-D56A-445F-BAB7-6E04BF74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E36-EF0C-45E6-A003-DC714B5E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9B7-F0FC-429B-941A-AA42F293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907-6446-41ED-87C0-C0949281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B4B-A046-43B7-A7C7-5729FD29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76E-C235-427D-86B9-9FCAB36D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8CA-1121-4BB0-9771-3957265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C67-6AC8-4EA2-A772-CEF743E0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B342-F2A1-4742-9153-08C07B0234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AC22-8A43-4BB6-9E1C-48B9E690A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43FF-F0BB-47A7-A4EA-555BABEC60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1EC2-7691-4B13-A90A-85B796D9D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jean@actionbasedlearning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ilding Better Brains Through PE </a:t>
            </a:r>
            <a:br>
              <a:rPr sz="4400"/>
            </a:b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ction Based Learning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ean Blay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3" descr="MCAN04429_0000[1]"/>
          <p:cNvPicPr/>
          <p:nvPr/>
        </p:nvPicPr>
        <p:blipFill>
          <a:blip r:embed="rId1"/>
          <a:stretch/>
        </p:blipFill>
        <p:spPr>
          <a:xfrm rot="16200000">
            <a:off x="20739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MCAN04429_0000[1]"/>
          <p:cNvPicPr/>
          <p:nvPr/>
        </p:nvPicPr>
        <p:blipFill>
          <a:blip r:embed="rId2"/>
          <a:stretch/>
        </p:blipFill>
        <p:spPr>
          <a:xfrm rot="16200000">
            <a:off x="3292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MCAN04429_0000[1]"/>
          <p:cNvPicPr/>
          <p:nvPr/>
        </p:nvPicPr>
        <p:blipFill>
          <a:blip r:embed="rId3"/>
          <a:stretch/>
        </p:blipFill>
        <p:spPr>
          <a:xfrm rot="16200000">
            <a:off x="4588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MCAN04429_0000[1]"/>
          <p:cNvPicPr/>
          <p:nvPr/>
        </p:nvPicPr>
        <p:blipFill>
          <a:blip r:embed="rId4"/>
          <a:stretch/>
        </p:blipFill>
        <p:spPr>
          <a:xfrm rot="16200000">
            <a:off x="5731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MCAN04429_0000[1]"/>
          <p:cNvPicPr/>
          <p:nvPr/>
        </p:nvPicPr>
        <p:blipFill>
          <a:blip r:embed="rId5"/>
          <a:stretch/>
        </p:blipFill>
        <p:spPr>
          <a:xfrm rot="16200000">
            <a:off x="7099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MCAN04429_0000[1]"/>
          <p:cNvPicPr/>
          <p:nvPr/>
        </p:nvPicPr>
        <p:blipFill>
          <a:blip r:embed="rId6"/>
          <a:stretch/>
        </p:blipFill>
        <p:spPr>
          <a:xfrm rot="16200000">
            <a:off x="699120" y="516600"/>
            <a:ext cx="72576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paring the Brain for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 are hard-wired fo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6 emo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ANGE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DISGUST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ADNESS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FEA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 other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mo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UST be taught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operation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ie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mpath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rgiven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lera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ec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onsibili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riotis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i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ndorphin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ves pain, starts hea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otonin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hhhhhh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rtisol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k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radrenalin/Norephenephrin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y attention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pamine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! Better take 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il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the brain gr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s of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bir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mmy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lling o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aw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" name="Macintosh HD:Users:jeanmadigan:Desktop:Movies:Max Roll Over.mov" descr="/Users/jeanmadigan/Desktop/Movies/Max Roll Over.mov"/>
          <p:cNvPicPr/>
          <p:nvPr/>
        </p:nvPicPr>
        <p:blipFill>
          <a:blip r:embed="rId1"/>
          <a:stretch/>
        </p:blipFill>
        <p:spPr>
          <a:xfrm>
            <a:off x="1287360" y="1828800"/>
            <a:ext cx="6492960" cy="3657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Craw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Macintosh HD:Users:jeanmadigan:Desktop:Power points for show:max crawl.mov" descr="/Users/jeanmadigan/Desktop/max crawl.mov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65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Wal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8" name="Macintosh HD:Users:jeanmadigan:Documents:My Pictures:Max walking.mov" descr="/Users/jeanmadigan/Documents/My Pictures/Max walking.mov"/>
          <p:cNvPicPr/>
          <p:nvPr/>
        </p:nvPicPr>
        <p:blipFill>
          <a:blip r:embed="rId1"/>
          <a:stretch/>
        </p:blipFill>
        <p:spPr>
          <a:xfrm>
            <a:off x="3505320" y="1828800"/>
            <a:ext cx="2057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400800" cy="327672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ntional Movement  can prepare the brain for optimal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49080" y="4911120"/>
            <a:ext cx="60325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tart with the bra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Content Placeholder 13" descr="Real brain.jpg"/>
          <p:cNvPicPr/>
          <p:nvPr/>
        </p:nvPicPr>
        <p:blipFill>
          <a:blip r:embed="rId1"/>
          <a:srcRect l="-40417" t="0" r="-40417" b="0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 Lis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ysical Fitness/Nutr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Latera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tor Sk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isu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king and Ocular Purs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nsory Integ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moti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fe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 believe i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Quality P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give the student 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dvanta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o lear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ealthy, active students make better learn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w isn’t THAT a reason for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ILY QUALITY P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49080" y="4190760"/>
            <a:ext cx="6032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ught by a professional with all the equipment and all the facilities we ne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as a drug, the warning label might read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rning: the Surgeon General has determined tha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very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NEFICIA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your health causing possibl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EVEN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seases such as heart attack, stroke, cancer, Alzheimer's, Parkinson's. Possible side effects a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healthy body and a healthy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 more information contact Jean Blay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jean@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0" name="AutoShape 3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4" name="AutoShape 7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AutoShape 8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AutoShape 9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AutoShape 10"/>
              <p:cNvSpPr/>
              <p:nvPr/>
            </p:nvSpPr>
            <p:spPr>
              <a:xfrm>
                <a:off x="649080" y="397080"/>
                <a:ext cx="360360" cy="65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AutoShape 11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12"/>
          <p:cNvGrpSpPr/>
          <p:nvPr/>
        </p:nvGrpSpPr>
        <p:grpSpPr>
          <a:xfrm>
            <a:off x="7704000" y="4233240"/>
            <a:ext cx="1166040" cy="1327680"/>
            <a:chOff x="7704000" y="4233240"/>
            <a:chExt cx="1166040" cy="1327680"/>
          </a:xfrm>
        </p:grpSpPr>
        <p:sp>
          <p:nvSpPr>
            <p:cNvPr id="180" name="AutoShape 13"/>
            <p:cNvSpPr/>
            <p:nvPr/>
          </p:nvSpPr>
          <p:spPr>
            <a:xfrm rot="7320000">
              <a:off x="7792200" y="4658040"/>
              <a:ext cx="997200" cy="4654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 rot="7320000">
              <a:off x="7767360" y="4638240"/>
              <a:ext cx="993600" cy="4608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 rot="7320000">
              <a:off x="7933680" y="4622760"/>
              <a:ext cx="660240" cy="421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3" name="Group 16"/>
            <p:cNvGrpSpPr/>
            <p:nvPr/>
          </p:nvGrpSpPr>
          <p:grpSpPr>
            <a:xfrm>
              <a:off x="7704000" y="4233240"/>
              <a:ext cx="1166040" cy="1327680"/>
              <a:chOff x="7704000" y="4233240"/>
              <a:chExt cx="1166040" cy="1327680"/>
            </a:xfrm>
          </p:grpSpPr>
          <p:sp>
            <p:nvSpPr>
              <p:cNvPr id="184" name="AutoShape 17"/>
              <p:cNvSpPr/>
              <p:nvPr/>
            </p:nvSpPr>
            <p:spPr>
              <a:xfrm rot="7320000">
                <a:off x="7808400" y="5068440"/>
                <a:ext cx="102240" cy="12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 rot="7320000">
                <a:off x="7707600" y="4571280"/>
                <a:ext cx="1158480" cy="65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AutoShape 19"/>
              <p:cNvSpPr/>
              <p:nvPr/>
            </p:nvSpPr>
            <p:spPr>
              <a:xfrm rot="7320000">
                <a:off x="8038440" y="4712040"/>
                <a:ext cx="821160" cy="36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AutoShape 20"/>
              <p:cNvSpPr/>
              <p:nvPr/>
            </p:nvSpPr>
            <p:spPr>
              <a:xfrm rot="7320000">
                <a:off x="8597880" y="4506120"/>
                <a:ext cx="109440" cy="24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AutoShape 21"/>
              <p:cNvSpPr/>
              <p:nvPr/>
            </p:nvSpPr>
            <p:spPr>
              <a:xfrm rot="7320000">
                <a:off x="8145000" y="4729320"/>
                <a:ext cx="335520" cy="21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9" name="Freeform 22"/>
          <p:cNvSpPr/>
          <p:nvPr/>
        </p:nvSpPr>
        <p:spPr>
          <a:xfrm>
            <a:off x="901800" y="5054760"/>
            <a:ext cx="6807240" cy="72360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23"/>
          <p:cNvSpPr/>
          <p:nvPr/>
        </p:nvSpPr>
        <p:spPr>
          <a:xfrm>
            <a:off x="4076640" y="1952640"/>
            <a:ext cx="889200" cy="35712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7353360" y="6248520"/>
            <a:ext cx="303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277E-C470-4511-B8DC-3868B1CF03CD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3784680"/>
          </a:xfrm>
          <a:prstGeom prst="rect">
            <a:avLst/>
          </a:prstGeom>
          <a:noFill/>
          <a:ln w="0">
            <a:noFill/>
          </a:ln>
          <a:effectLst>
            <a:outerShdw dist="50638" dir="2109532" blurRad="0" rotWithShape="0">
              <a:srgbClr val="ffb800">
                <a:alpha val="75000"/>
              </a:srgbClr>
            </a:outerShdw>
          </a:effectLst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 you change a B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2717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al Plastic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8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7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9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2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6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24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5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28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29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0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31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39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0" name="Picture 47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5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7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7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7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7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Neural Plast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bility of the brain to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in changes throughout a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reates the optimal environment for the brain to create new brain cells and protect and build the existing ones. (Rate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benefits the BRAIN fir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brain at a     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OLECULAR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el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gluc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eurogenes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ar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ndritic branc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DN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Neurotransmit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0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32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32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32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Good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W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put the body and brain in balanc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utri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xerci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at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e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2057400"/>
            <a:ext cx="6400800" cy="19684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Brain is only as Healthy as the Body that carries 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lthy, Active KIDS make better Learners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Grow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6" descr="Eli on hoppity hop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9:31:15Z</dcterms:created>
  <dc:creator>satterba</dc:creator>
  <dc:description/>
  <dc:language>en-US</dc:language>
  <cp:lastModifiedBy>Jean Madigan</cp:lastModifiedBy>
  <dcterms:modified xsi:type="dcterms:W3CDTF">2013-03-26T19:55:18Z</dcterms:modified>
  <cp:revision>41</cp:revision>
  <dc:subject/>
  <dc:title>Slide 1</dc:title>
</cp:coreProperties>
</file>