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Line 1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Line 2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Group 8"/>
          <p:cNvGrpSpPr/>
          <p:nvPr/>
        </p:nvGrpSpPr>
        <p:grpSpPr>
          <a:xfrm>
            <a:off x="11455560" y="5537160"/>
            <a:ext cx="1104840" cy="179280"/>
            <a:chOff x="11455560" y="5537160"/>
            <a:chExt cx="1104840" cy="179280"/>
          </a:xfrm>
        </p:grpSpPr>
        <p:pic>
          <p:nvPicPr>
            <p:cNvPr id="4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Group 13"/>
          <p:cNvGrpSpPr/>
          <p:nvPr/>
        </p:nvGrpSpPr>
        <p:grpSpPr>
          <a:xfrm>
            <a:off x="457200" y="5537160"/>
            <a:ext cx="1104840" cy="179280"/>
            <a:chOff x="457200" y="5537160"/>
            <a:chExt cx="1104840" cy="179280"/>
          </a:xfrm>
        </p:grpSpPr>
        <p:pic>
          <p:nvPicPr>
            <p:cNvPr id="9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Group 21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Line 14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Line 15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Line 16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Line 17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Line 18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Line 19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Line 20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Group 29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Line 22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Line 23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Line 24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Line 25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Line 26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Line 27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Line 28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marL="58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8320" indent="-5832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58320" indent="-58320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58320" indent="-5832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45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91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537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6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11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927000" y="4775040"/>
            <a:ext cx="5626080" cy="228600"/>
            <a:chOff x="927000" y="4775040"/>
            <a:chExt cx="5626080" cy="228600"/>
          </a:xfrm>
        </p:grpSpPr>
        <p:sp>
          <p:nvSpPr>
            <p:cNvPr id="157" name="Line 1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Picture 2" descr=""/>
            <p:cNvPicPr/>
            <p:nvPr/>
          </p:nvPicPr>
          <p:blipFill>
            <a:blip r:embed="rId3"/>
            <a:stretch/>
          </p:blipFill>
          <p:spPr>
            <a:xfrm>
              <a:off x="632448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4"/>
            <a:stretch/>
          </p:blipFill>
          <p:spPr>
            <a:xfrm>
              <a:off x="92700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marL="2916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291600" indent="-291600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200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3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Line 1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Line 2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Group 8"/>
          <p:cNvGrpSpPr/>
          <p:nvPr/>
        </p:nvGrpSpPr>
        <p:grpSpPr>
          <a:xfrm>
            <a:off x="11455560" y="1917720"/>
            <a:ext cx="1104840" cy="179280"/>
            <a:chOff x="11455560" y="1917720"/>
            <a:chExt cx="1104840" cy="179280"/>
          </a:xfrm>
        </p:grpSpPr>
        <p:pic>
          <p:nvPicPr>
            <p:cNvPr id="246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3"/>
          <p:cNvGrpSpPr/>
          <p:nvPr/>
        </p:nvGrpSpPr>
        <p:grpSpPr>
          <a:xfrm>
            <a:off x="457200" y="1917720"/>
            <a:ext cx="1104840" cy="179280"/>
            <a:chOff x="457200" y="1917720"/>
            <a:chExt cx="1104840" cy="179280"/>
          </a:xfrm>
        </p:grpSpPr>
        <p:pic>
          <p:nvPicPr>
            <p:cNvPr id="251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21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Line 14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Line 19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Group 29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Line 22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Line 24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marL="58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8320" indent="-5832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58320" indent="-58320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58320" indent="-5832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58320" indent="-5832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3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Line 1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Line 2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Group 6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Line 4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5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9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Action Based Academics</a:t>
            </a:r>
            <a:br>
              <a:rPr sz="6800"/>
            </a:b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501640" y="6553080"/>
            <a:ext cx="8204040" cy="109224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Jean Blaydes 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Action Based Learning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Building Capacity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3636"/>
                </a:solidFill>
                <a:latin typeface="Bodoni SvtyTwo ITC TT-Book"/>
              </a:rPr>
              <a:t>Movement with Intention</a:t>
            </a:r>
            <a:endParaRPr b="0" lang="en-US" sz="3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ath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25120" y="27936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Number Bal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Quick Math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11-13-15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Greater than, Less than and Equal To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ractio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Place value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Slap Happy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lap Clap Snap Tap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lap Coun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lap Slap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eading/Literacy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ategori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lly Sentenc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rows and Cran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Active Listening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hythmical Pattern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One pattern 5 way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each me How to Wobble  by Cupid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Action Based Academics</a:t>
            </a:r>
            <a:br>
              <a:rPr sz="6800"/>
            </a:b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1640" y="6553080"/>
            <a:ext cx="8204040" cy="109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Jean Blaydes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Action Based Learning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4:06:52Z</dcterms:created>
  <dc:creator/>
  <dc:description/>
  <cp:keywords/>
  <dc:language>en-US</dc:language>
  <cp:lastModifiedBy>Jean Madigan</cp:lastModifiedBy>
  <dcterms:modified xsi:type="dcterms:W3CDTF">2013-03-26T20:05:20Z</dcterms:modified>
  <cp:revision>8</cp:revision>
  <dc:subject/>
  <dc:title>classroom activity Why? When? How? how much?</dc:title>
</cp:coreProperties>
</file>