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1D6-2395-40A1-A008-AC7FAA9267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BB49-158A-457B-8C04-BC9071F8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61A8-49F0-40FB-BB51-94D9065C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oner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Fu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 ta 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AD58-4B5F-4C5F-AF08-E63F3D5F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461-73EF-4521-889C-09386C3E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DF8-A1A4-4E43-B269-4554C5D1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622-F713-4F21-956E-0D138C3C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B25-867F-4A77-AF76-D01F64DB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DB6-FAC1-4885-BAD3-FE73DD27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D062-084B-4C31-92E1-0CED10BE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92D-9F7B-40FF-8FD3-31577986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6C12-7E0A-45BD-8682-A46C186C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B05E-B9CE-4BCC-AC5E-E499C114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FF4F-E0ED-4DF6-86B1-7922A122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0B4-1F50-4C94-B91D-3490233B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9622-3021-482F-9871-05FCBEF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935-5521-48E1-A485-A30491AC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13B0-5819-4243-AAC2-3C0CB12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FA8F-526C-4F74-9C90-914398F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C210-89D8-4B59-BDA7-F00B2BC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C467-FEE9-43D1-B087-C39AA6E3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E189-BD23-4D53-AC68-2DBFF24B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C2D-C5CC-4BF5-B8E5-05C29D7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7E6-0356-4CBE-A683-51E884A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786-6513-4793-AFD1-ADF8F85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D18-F1AB-4C81-A2CB-FDF7AE79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841-FBD1-4303-B802-E87FC83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69D-0CAE-4C5A-A49E-B0D56C20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DA4-24C3-4E9B-8FDC-62597175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3B93-022B-407C-8323-420D70B502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312-6CF5-4FEF-98CF-124BB3CF5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4EB6-7306-4537-90F5-FA4F66471A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3ACF-402D-4B15-B4B3-A89E016B7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jean@actionbasedlearning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uilding Better Brains Through PE 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ction Based Learning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ean Blay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3" descr="MCAN04429_0000[1]"/>
          <p:cNvPicPr/>
          <p:nvPr/>
        </p:nvPicPr>
        <p:blipFill>
          <a:blip r:embed="rId1"/>
          <a:stretch/>
        </p:blipFill>
        <p:spPr>
          <a:xfrm rot="16200000">
            <a:off x="20739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MCAN04429_0000[1]"/>
          <p:cNvPicPr/>
          <p:nvPr/>
        </p:nvPicPr>
        <p:blipFill>
          <a:blip r:embed="rId2"/>
          <a:stretch/>
        </p:blipFill>
        <p:spPr>
          <a:xfrm rot="16200000">
            <a:off x="3292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MCAN04429_0000[1]"/>
          <p:cNvPicPr/>
          <p:nvPr/>
        </p:nvPicPr>
        <p:blipFill>
          <a:blip r:embed="rId3"/>
          <a:stretch/>
        </p:blipFill>
        <p:spPr>
          <a:xfrm rot="16200000">
            <a:off x="4588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MCAN04429_0000[1]"/>
          <p:cNvPicPr/>
          <p:nvPr/>
        </p:nvPicPr>
        <p:blipFill>
          <a:blip r:embed="rId4"/>
          <a:stretch/>
        </p:blipFill>
        <p:spPr>
          <a:xfrm rot="16200000">
            <a:off x="5731560" y="516600"/>
            <a:ext cx="725760" cy="91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MCAN04429_0000[1]"/>
          <p:cNvPicPr/>
          <p:nvPr/>
        </p:nvPicPr>
        <p:blipFill>
          <a:blip r:embed="rId5"/>
          <a:stretch/>
        </p:blipFill>
        <p:spPr>
          <a:xfrm rot="16200000">
            <a:off x="7099920" y="516600"/>
            <a:ext cx="725760" cy="91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MCAN04429_0000[1]"/>
          <p:cNvPicPr/>
          <p:nvPr/>
        </p:nvPicPr>
        <p:blipFill>
          <a:blip r:embed="rId6"/>
          <a:stretch/>
        </p:blipFill>
        <p:spPr>
          <a:xfrm rot="16200000">
            <a:off x="699120" y="516600"/>
            <a:ext cx="72576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aring the Brain for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 are hard-wired f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 emo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ANGE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DISGUST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SADNESS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FEAR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other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mo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UST be taught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operation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i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mpath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given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ler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ec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atriotis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ar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ndorphin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s pain, starts hea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rotonin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hhhhhh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rtisol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k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radrenalin/Norephenephrin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y attention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pamine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! Better take 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ild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the brain gr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of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bir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ua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mm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lling o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aw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Macintosh HD:Users:jeanmadigan:Desktop:Movies:Max Roll Over.mov" descr="/Users/jeanmadigan/Desktop/Movies/Max Roll Over.mov"/>
          <p:cNvPicPr/>
          <p:nvPr/>
        </p:nvPicPr>
        <p:blipFill>
          <a:blip r:embed="rId1"/>
          <a:stretch/>
        </p:blipFill>
        <p:spPr>
          <a:xfrm>
            <a:off x="1287360" y="1828800"/>
            <a:ext cx="6492960" cy="365760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Craw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Macintosh HD:Users:jeanmadigan:Desktop:Power points for show:max crawl.mov" descr="/Users/jeanmadigan/Desktop/max crawl.mov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Wal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8" name="Macintosh HD:Users:jeanmadigan:Documents:My Pictures:Max walking.mov" descr="/Users/jeanmadigan/Documents/My Pictures/Max walking.mov"/>
          <p:cNvPicPr/>
          <p:nvPr/>
        </p:nvPicPr>
        <p:blipFill>
          <a:blip r:embed="rId1"/>
          <a:stretch/>
        </p:blipFill>
        <p:spPr>
          <a:xfrm>
            <a:off x="3505320" y="1828800"/>
            <a:ext cx="205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400800" cy="327672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ntional Movement  can prepare the brain for optimal 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49080" y="4911120"/>
            <a:ext cx="603252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start with the bra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Content Placeholder 13" descr="Real brain.jpg"/>
          <p:cNvPicPr/>
          <p:nvPr/>
        </p:nvPicPr>
        <p:blipFill>
          <a:blip r:embed="rId1"/>
          <a:srcRect l="-40417" t="0" r="-40417" b="0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 Lis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hysical Fitness/Nutr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Latera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tor Sk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ua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ing and Ocular Purs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nsory Integ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moti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fe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e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believe i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Quality P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give the studen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dvant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o lear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ealthy, active students make better learn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w isn’t THAT a reason for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AILY QUALITY P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by a professional with all the equipment and all the facilities we ne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as a drug, the warning label might read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ning: the Surgeon General has determined th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very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NEFICIA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your health causing possib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EVEN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diseases such as heart attack, stroke, cancer, Alzheimer's, Parkinson's. Possible side effec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healthy body and a healthy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 more information contact Jean Blay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jean@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ctionbasedlearning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Group 2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0" name="AutoShape 3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" name="Group 6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4" name="AutoShape 7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AutoShape 8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AutoShape 9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AutoShape 11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12"/>
          <p:cNvGrpSpPr/>
          <p:nvPr/>
        </p:nvGrpSpPr>
        <p:grpSpPr>
          <a:xfrm>
            <a:off x="7704000" y="4233240"/>
            <a:ext cx="1166040" cy="1327680"/>
            <a:chOff x="7704000" y="4233240"/>
            <a:chExt cx="1166040" cy="1327680"/>
          </a:xfrm>
        </p:grpSpPr>
        <p:sp>
          <p:nvSpPr>
            <p:cNvPr id="180" name="AutoShape 13"/>
            <p:cNvSpPr/>
            <p:nvPr/>
          </p:nvSpPr>
          <p:spPr>
            <a:xfrm rot="7320000">
              <a:off x="7792200" y="4658040"/>
              <a:ext cx="997200" cy="4654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 rot="7320000">
              <a:off x="7767360" y="4638240"/>
              <a:ext cx="993600" cy="4608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 rot="7320000">
              <a:off x="7933680" y="4622760"/>
              <a:ext cx="660240" cy="4212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3" name="Group 16"/>
            <p:cNvGrpSpPr/>
            <p:nvPr/>
          </p:nvGrpSpPr>
          <p:grpSpPr>
            <a:xfrm>
              <a:off x="7704000" y="4233240"/>
              <a:ext cx="1166040" cy="1327680"/>
              <a:chOff x="7704000" y="4233240"/>
              <a:chExt cx="1166040" cy="1327680"/>
            </a:xfrm>
          </p:grpSpPr>
          <p:sp>
            <p:nvSpPr>
              <p:cNvPr id="184" name="AutoShape 17"/>
              <p:cNvSpPr/>
              <p:nvPr/>
            </p:nvSpPr>
            <p:spPr>
              <a:xfrm rot="7320000">
                <a:off x="7808400" y="5068440"/>
                <a:ext cx="102240" cy="12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 rot="7320000">
                <a:off x="7707600" y="4571280"/>
                <a:ext cx="1158480" cy="65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AutoShape 19"/>
              <p:cNvSpPr/>
              <p:nvPr/>
            </p:nvSpPr>
            <p:spPr>
              <a:xfrm rot="7320000">
                <a:off x="8038440" y="4712040"/>
                <a:ext cx="821160" cy="36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AutoShape 20"/>
              <p:cNvSpPr/>
              <p:nvPr/>
            </p:nvSpPr>
            <p:spPr>
              <a:xfrm rot="7320000">
                <a:off x="8597880" y="4506120"/>
                <a:ext cx="109440" cy="24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AutoShape 21"/>
              <p:cNvSpPr/>
              <p:nvPr/>
            </p:nvSpPr>
            <p:spPr>
              <a:xfrm rot="7320000">
                <a:off x="8145000" y="4729320"/>
                <a:ext cx="335520" cy="21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9" name="Freeform 22"/>
          <p:cNvSpPr/>
          <p:nvPr/>
        </p:nvSpPr>
        <p:spPr>
          <a:xfrm>
            <a:off x="901800" y="5054760"/>
            <a:ext cx="6807240" cy="72360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23"/>
          <p:cNvSpPr/>
          <p:nvPr/>
        </p:nvSpPr>
        <p:spPr>
          <a:xfrm>
            <a:off x="4076640" y="1952640"/>
            <a:ext cx="889200" cy="35712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735336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8736-0244-4104-82E7-51021EFFA00D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38" dir="2109532" blurRad="0" rotWithShape="0">
              <a:srgbClr val="ffb800">
                <a:alpha val="75000"/>
              </a:srgbClr>
            </a:outerShdw>
          </a:effectLst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you change a B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2717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al Plastic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8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7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9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6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24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5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28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29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0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31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39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0" name="Picture 47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5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7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27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27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27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Neural Plast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bility of the brain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rain changes throughout a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reates the optimal environment for the brain to create new brain cells and protect and build the existing ones. (Rate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benefits the BRAIN fir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erc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brain at a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OLECULAR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el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glu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eurogenes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ar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ndritic branch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D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eurotransmit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 rot="18420000">
            <a:off x="7776720" y="-15480"/>
            <a:ext cx="1162080" cy="2082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"/>
          <p:cNvSpPr/>
          <p:nvPr/>
        </p:nvSpPr>
        <p:spPr>
          <a:xfrm rot="18420000">
            <a:off x="7863480" y="2088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3"/>
          <p:cNvSpPr/>
          <p:nvPr/>
        </p:nvSpPr>
        <p:spPr>
          <a:xfrm rot="18420000">
            <a:off x="7831080" y="190440"/>
            <a:ext cx="102528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5" name="AutoShape 5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AutoShape 6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AutoShape 11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AutoShape 12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AutoShape 13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1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5" name="Group 15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06" name="AutoShape 16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AutoShape 17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18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9" name="AutoShape 19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AutoShape 20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AutoShape 21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2" name="Group 2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3" name="AutoShape 2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AutoShape 24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AutoShape 2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AutoShape 2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AutoShape 27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AutoShape 2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AutoShape 29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AutoShape 30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1" name="Group 3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2" name="AutoShape 32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AutoShape 33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4" name="Group 34"/>
          <p:cNvGrpSpPr/>
          <p:nvPr/>
        </p:nvGrpSpPr>
        <p:grpSpPr>
          <a:xfrm>
            <a:off x="6890760" y="-141840"/>
            <a:ext cx="2987280" cy="2853000"/>
            <a:chOff x="6890760" y="-141840"/>
            <a:chExt cx="2987280" cy="2853000"/>
          </a:xfrm>
        </p:grpSpPr>
        <p:grpSp>
          <p:nvGrpSpPr>
            <p:cNvPr id="325" name="Group 35"/>
            <p:cNvGrpSpPr/>
            <p:nvPr/>
          </p:nvGrpSpPr>
          <p:grpSpPr>
            <a:xfrm>
              <a:off x="6890760" y="-141840"/>
              <a:ext cx="2987280" cy="2853000"/>
              <a:chOff x="6890760" y="-141840"/>
              <a:chExt cx="2987280" cy="2853000"/>
            </a:xfrm>
          </p:grpSpPr>
          <p:sp>
            <p:nvSpPr>
              <p:cNvPr id="326" name="AutoShape 36"/>
              <p:cNvSpPr/>
              <p:nvPr/>
            </p:nvSpPr>
            <p:spPr>
              <a:xfrm rot="18420000">
                <a:off x="8618400" y="172188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7" name="Group 37"/>
              <p:cNvGrpSpPr/>
              <p:nvPr/>
            </p:nvGrpSpPr>
            <p:grpSpPr>
              <a:xfrm>
                <a:off x="6890760" y="-141840"/>
                <a:ext cx="2987280" cy="2853000"/>
                <a:chOff x="6890760" y="-141840"/>
                <a:chExt cx="2987280" cy="2853000"/>
              </a:xfrm>
            </p:grpSpPr>
            <p:sp>
              <p:nvSpPr>
                <p:cNvPr id="328" name="AutoShape 38"/>
                <p:cNvSpPr/>
                <p:nvPr/>
              </p:nvSpPr>
              <p:spPr>
                <a:xfrm rot="18420000">
                  <a:off x="7775280" y="-22320"/>
                  <a:ext cx="3520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AutoShape 39"/>
                <p:cNvSpPr/>
                <p:nvPr/>
              </p:nvSpPr>
              <p:spPr>
                <a:xfrm rot="18420000">
                  <a:off x="7921080" y="621720"/>
                  <a:ext cx="61848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AutoShape 40"/>
                <p:cNvSpPr/>
                <p:nvPr/>
              </p:nvSpPr>
              <p:spPr>
                <a:xfrm rot="18420000">
                  <a:off x="7520040" y="388080"/>
                  <a:ext cx="116136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AutoShape 41"/>
                <p:cNvSpPr/>
                <p:nvPr/>
              </p:nvSpPr>
              <p:spPr>
                <a:xfrm rot="18420000">
                  <a:off x="7512480" y="71280"/>
                  <a:ext cx="17434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AutoShape 42"/>
                <p:cNvSpPr/>
                <p:nvPr/>
              </p:nvSpPr>
              <p:spPr>
                <a:xfrm rot="18420000">
                  <a:off x="8393760" y="1842480"/>
                  <a:ext cx="3884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AutoShape 43"/>
                <p:cNvSpPr/>
                <p:nvPr/>
              </p:nvSpPr>
              <p:spPr>
                <a:xfrm rot="18420000">
                  <a:off x="8286480" y="1639080"/>
                  <a:ext cx="41616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AutoShape 44"/>
                <p:cNvSpPr/>
                <p:nvPr/>
              </p:nvSpPr>
              <p:spPr>
                <a:xfrm rot="18420000">
                  <a:off x="7802640" y="302400"/>
                  <a:ext cx="4161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AutoShape 45"/>
                <p:cNvSpPr/>
                <p:nvPr/>
              </p:nvSpPr>
              <p:spPr>
                <a:xfrm rot="18420000">
                  <a:off x="7759440" y="110520"/>
                  <a:ext cx="4114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6" name="Line 46"/>
            <p:cNvSpPr/>
            <p:nvPr/>
          </p:nvSpPr>
          <p:spPr>
            <a:xfrm>
              <a:off x="7729560" y="133200"/>
              <a:ext cx="66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Goo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W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put the body and brain in balanc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utri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xerci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at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e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2057400"/>
            <a:ext cx="6400800" cy="19684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Brain is only as Healthy as the Body that carries 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lthy, Active KIDS make better Learners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ercise Grow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 Cel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6" descr="Eli on hoppity hop"/>
          <p:cNvPicPr/>
          <p:nvPr/>
        </p:nvPicPr>
        <p:blipFill>
          <a:blip r:embed="rId1"/>
          <a:stretch/>
        </p:blipFill>
        <p:spPr>
          <a:xfrm>
            <a:off x="209556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31:15Z</dcterms:created>
  <dc:creator>satterba</dc:creator>
  <dc:description/>
  <dc:language>en-US</dc:language>
  <cp:lastModifiedBy>Jean Madigan</cp:lastModifiedBy>
  <dcterms:modified xsi:type="dcterms:W3CDTF">2013-03-26T19:55:18Z</dcterms:modified>
  <cp:revision>41</cp:revision>
  <dc:subject/>
  <dc:title>Slide 1</dc:title>
</cp:coreProperties>
</file>