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260-595D-4778-9112-D9978231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FCC-4C47-4E5C-8102-039F25FC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C54-1D91-47F6-BAB1-7F3088EE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37B-977B-4F7A-A3CB-1A93397B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7E5D-8DC4-4131-BBEB-4CA9F761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71A6-B6B6-4B19-A3D3-C78EE98D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642D-043B-447E-89A2-36F909DE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462C-5CE8-4BCB-8003-646A0527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EC17-DF0C-47A8-B4C5-C5B1E47B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D6D1-7D0F-4032-98D0-82FE9CB5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9CEC-5102-4315-9527-439B0E1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C49-E272-4FF5-9108-FCEE6DA9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E3DA-EACE-4C19-8A2F-B748357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CABD-BBE2-402C-9757-5549C55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18E2-CA26-4884-9E88-05253EE4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55A9-EFDA-465C-8765-0F4F038E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EB64-96B5-4373-8FBA-0D1B331A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3FD52-D631-428C-B246-4B563986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E7FF9-0418-4B9F-BA62-46C74027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C57E-BACC-45AE-BB67-D0C6E7ED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1AD35-CE36-4B5D-B4CA-CD3AF695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FF16-D939-4928-B9AC-584407C6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744-E1B2-4F33-B0D1-5C1E2C3C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EA1D-FF36-4F9E-9145-D80FC9F5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2D895-352D-44E9-A764-EACC9059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FE40A-8357-4EC1-BD3C-B402FEA2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C160-8539-471D-A25F-729DD85C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A873-E54F-4D9F-9D04-BCECF098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5923-9534-44D4-9BA4-EF216015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4962-9E57-4CAA-BB18-6940EC2A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9598B-0B67-4729-9D67-AEEDF43A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18B7-9DDD-4C1A-85FD-BCA22A79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3B8E-D088-4FA1-AF01-1856830C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DE6-4CB7-4A75-A9C8-7515BC5F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FF2F8-8596-4AED-8F23-9A03CF60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53905-BDFE-43D0-8954-A315202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1878B-A7D3-4C52-8AF7-47C5E80B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1AEA7-4261-492D-80DE-08F1ADA5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B109A-4813-46DE-AE8F-0F6EF56F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4BFB-5006-47A7-865A-66E41C33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39E8-C220-45EC-957E-33B5D530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09DE1-C222-403A-BCC8-8CB7E93D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188B4-02E3-4F4F-8C5D-53A2EC67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508A5-E187-40B3-BE53-9F5CC79A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6EC-CFB3-49F4-B659-443E9837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86DAE-321D-43B3-B4FC-866B28D0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B2374-B323-40A3-B854-8704C72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A339-E420-4F3C-8C30-6DAD7BF0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E0E8-3388-49A4-8150-B359CB38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B2BFC-DF90-4306-93F6-54497F74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47538-BEE9-44BA-A195-7774FA3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9160-F59E-4F8A-9D1A-078B1A81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E790-27DE-41D7-AF22-D3BF4C91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3B2A-3916-4D60-A9B4-6942E61E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5D7C7-CF07-43EB-BAC5-CA2A0321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930-B871-4D58-A43D-2D5E2644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15135-DF60-421F-AFF3-9765F665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83C48-6C9E-4CA4-A22D-F3DFD274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1F9A-84F0-421E-A519-6344F463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C6F7-D729-4799-87CA-4C01DE45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6D74-C196-4849-A1EF-BAB0E567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6B3A-67C9-42A3-B487-16012862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BC681-F55D-414A-A126-32F35648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3AC91-77F8-49BF-8E9A-24FE6DAD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6384-833D-4C13-94AA-FC0A168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60730-42CC-4F31-A5C4-7F9494D6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24C-72A7-492F-92E1-1A1950B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155C4-4ED3-4F9B-B409-3D6D0811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DB700-F96A-44A2-8D5F-6F5500EF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1D5C6-4B74-48AC-8604-6C53AFF8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3D544-6AEF-4A56-A146-FD979349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037A5-4E65-4CF2-B0C2-024FD014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E1072-4661-40AD-B4EB-818F2B5C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BA5F2-D1B7-4B53-926E-30030402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48484-3DCA-400F-8430-42B9A4B4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B3604-97DE-411F-9667-20F17E7D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35B9D-52F3-41E3-8EF3-75BA8435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D3B-7310-4C0B-87F9-5A04F1B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85E6D-EEE8-4C4B-B197-5D5C62A9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42319-BC1A-4C7B-B27A-DE2419E5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87A4F-C853-48D0-8503-4D105125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61924-A2A9-4024-A7CB-671FDDC3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9762D-0800-4FD1-9145-99C2FA19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85F82-2760-450E-BB66-BC917539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0A2D3-A19A-4A0B-BD7F-C9F91588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8651E-2041-4AD8-9CAB-6306E5A8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2F73C-7A29-4853-BFF3-117E63F9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C31E9-1A9F-4A8B-BDDD-BCB7801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74B-EDF2-4097-B71C-4A752FD5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01D81-F6D1-4187-8B47-4BBF3C4A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F8F98-B49D-4142-ABF6-238A889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245A7-32A5-4F60-B8D6-04796674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63DF0-0500-4888-A294-D7CE7C07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45E99-0D23-4DDF-B70F-2A85D95E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CDDA4-E046-40ED-A548-A8DD9975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A86FE-99A8-4F86-B600-2E6FC8D7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EF7B-8044-4BD4-9977-CF948950A14A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92B9-0582-458C-B064-14378E17B4CD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7986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2C4D-F007-4CFB-978F-00A89B4AEAB3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33DC-4AED-481B-B4B9-5110B6A87E2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A981-C504-4A8F-A9E4-E05DB5B3738F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634D-52D0-4F5C-8147-30A96884C63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1564-D579-44AC-9F6B-FBD1EC0DB786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99F0-190C-4DDD-A87A-74A1426750A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4508-9AF6-4BDF-B077-4F03A92DDEA1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BFA0-B299-40DA-AA60-867A6CA915D8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BD25-49EF-4D91-9C63-90E24E54D8B2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C244-5A10-4A8E-92F7-59E3B89FA17C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5EDB-BB1A-4BB3-BA78-B24C8D49FC62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7871-A981-46A0-961C-F2DD4477DCE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791A-8647-4287-8300-E956C002DCB7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562D-78A2-4D07-AF05-35D75AC021F0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dance performanc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Be Creative  -  Work together – Have Fun  - Rehearse a Lot!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6629400" y="535608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y Lien Indig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horeograph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te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rainstorm different dance steps with the tea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spect and include the different ability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clude all required items in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cuss everything with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oject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71600" y="1981080"/>
            <a:ext cx="64008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responsible for the final presen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sure everyone participates and pract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ganizes extra meetings if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dancers who miss a practi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lve problems that aris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teacher whe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3680" y="2019240"/>
            <a:ext cx="75070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arn the dance from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en to instructions and watches demonstra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actices the steps and asks for help when difficul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steps and routines created by the choreographer and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different abilities of other danc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hearse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211120"/>
            <a:ext cx="6400800" cy="32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ORK TOGETHER AND SHARE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 CREATIV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EAM WORK WILL BE ASSESS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TTER EASY STEP AND TOGETHER, THEN DIFFICULT STEPS THAT NO BODY CAN PERFOR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QUALITY OF YOUR PERFORMANCE WILL BE EQUAL TO THE EFFORT YOU PUT INTO I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34560" y="2274480"/>
            <a:ext cx="683748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ILY PROJECT REPORT BY THE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GROUP ASSESSMENT ON TEAM MEMBERS CONTRIBU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DIVIDUAL ASSESSMENT OF ALL TEAM MEMB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LF ASSESSMENT ON DANCE SKILL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DO PERFORM ON STAG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LOOK AT OTHER DANCERS TO REMEMBER THE ROUTIN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ARE YOU PERFORMING THE DANCE STEPS?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STAY ON THE BEAT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079360"/>
            <a:ext cx="64008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AD THE RESPONSIBILITIES ON HAIK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CIDE WHAT JOB YOU WANT TO D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POSE YOUR GROUPS TO ME BY EMAIL!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 WILL DECIDE WHICH GROUPS ARE ACCEPT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OME GROUPS MIGHT NEED TO CHANGE A FEW MEMBERS IN THE GROUP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E WILL START PRACTICE ON MONDA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do you ne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28680" y="2409480"/>
            <a:ext cx="3232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group of 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horeograph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reative Design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4603680" y="2409840"/>
            <a:ext cx="32320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A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the SPACE [levels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 with EFFOR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ctions – certain ste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y on the beat – Temp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rmations – Floor patter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71600" y="2161800"/>
            <a:ext cx="640080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 min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reate a costume OR use a PROP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ick a song with Rhythm you can dance t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p Hop moves go well with rap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azz moves go well with popular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cide on a FAST or SLOW rhythm (slow is easy, but can be tricky too. Sometimes music can be too fast and difficult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ROUP RESPONSIBILITI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2242800"/>
            <a:ext cx="64008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RE YOUR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PPORT THE DIFFERENT LEVELS IN YOUR GROU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SPECT YOUR LEAD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AVE AN OPEN MIND ABOUT WHAT THE DANCE  COULD BE LIKE OR LOOK LIKE…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YOUR TIME W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AKE OWNERSHIP OF THE PROJEC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1279440"/>
            <a:ext cx="7270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mations &amp; FLOOR PATTER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hoose 5 as your fram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2437920"/>
            <a:ext cx="316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RAIGHT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ZIG ZAG LI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MON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 OR X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692600" y="2476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4692600" y="2422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WARD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WAY FROM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URVED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OVE IN A 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8840" y="1060560"/>
            <a:ext cx="73742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quired action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ins – turns – jumps – chainee – box ste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9" name="Content Placeholder 3" descr="JUMP.jpeg"/>
          <p:cNvPicPr/>
          <p:nvPr/>
        </p:nvPicPr>
        <p:blipFill>
          <a:blip r:embed="rId1"/>
          <a:srcRect l="0" t="9448" r="0" b="9448"/>
          <a:stretch/>
        </p:blipFill>
        <p:spPr>
          <a:xfrm>
            <a:off x="888840" y="2244600"/>
            <a:ext cx="2386080" cy="1136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POSES.jpeg"/>
          <p:cNvPicPr/>
          <p:nvPr/>
        </p:nvPicPr>
        <p:blipFill>
          <a:blip r:embed="rId2"/>
          <a:stretch/>
        </p:blipFill>
        <p:spPr>
          <a:xfrm>
            <a:off x="3881520" y="2244600"/>
            <a:ext cx="1285920" cy="1287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POSES 3.jpeg"/>
          <p:cNvPicPr/>
          <p:nvPr/>
        </p:nvPicPr>
        <p:blipFill>
          <a:blip r:embed="rId3"/>
          <a:stretch/>
        </p:blipFill>
        <p:spPr>
          <a:xfrm>
            <a:off x="888840" y="3718080"/>
            <a:ext cx="2360880" cy="1768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POSES 4.jpeg"/>
          <p:cNvPicPr/>
          <p:nvPr/>
        </p:nvPicPr>
        <p:blipFill>
          <a:blip r:embed="rId4"/>
          <a:stretch/>
        </p:blipFill>
        <p:spPr>
          <a:xfrm>
            <a:off x="3413160" y="3718080"/>
            <a:ext cx="2398680" cy="1920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spinning.jpeg"/>
          <p:cNvPicPr/>
          <p:nvPr/>
        </p:nvPicPr>
        <p:blipFill>
          <a:blip r:embed="rId5"/>
          <a:stretch/>
        </p:blipFill>
        <p:spPr>
          <a:xfrm>
            <a:off x="5572080" y="2227320"/>
            <a:ext cx="1004760" cy="149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PIN jpeg.jpeg"/>
          <p:cNvPicPr/>
          <p:nvPr/>
        </p:nvPicPr>
        <p:blipFill>
          <a:blip r:embed="rId6"/>
          <a:stretch/>
        </p:blipFill>
        <p:spPr>
          <a:xfrm>
            <a:off x="6576840" y="3632040"/>
            <a:ext cx="1530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27160" y="769680"/>
            <a:ext cx="7021440" cy="12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v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 LOW – MEDIUM – HIGH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6" name="Content Placeholder 9" descr=""/>
          <p:cNvPicPr/>
          <p:nvPr/>
        </p:nvPicPr>
        <p:blipFill>
          <a:blip r:embed="rId1"/>
          <a:stretch/>
        </p:blipFill>
        <p:spPr>
          <a:xfrm>
            <a:off x="2671920" y="2714760"/>
            <a:ext cx="38923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Guiding pap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89640" y="2263680"/>
            <a:ext cx="87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ll out this form while you are working on your dance.  It will help you to include all th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ifferent aspects of a Dance.  Your teacher will collect it for you at the end of each class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9" name="Content Placeholder 3" descr="Screen shot 2013-03-06 at 8.12.47 PM.png"/>
          <p:cNvPicPr/>
          <p:nvPr/>
        </p:nvPicPr>
        <p:blipFill>
          <a:blip r:embed="rId1"/>
          <a:srcRect l="0" t="27699" r="0" b="27699"/>
          <a:stretch/>
        </p:blipFill>
        <p:spPr>
          <a:xfrm>
            <a:off x="1260360" y="2982960"/>
            <a:ext cx="6400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reative directo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the dance INTRESTING OR SPECI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on the theme, the costume or prop, the music, the beginning and ending pose (or ac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everything with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1:43:58Z</dcterms:created>
  <dc:creator>Lien  Indigne</dc:creator>
  <dc:description/>
  <dc:language>en-US</dc:language>
  <cp:lastModifiedBy>Lien  Indigne</cp:lastModifiedBy>
  <dcterms:modified xsi:type="dcterms:W3CDTF">2013-03-06T13:40:43Z</dcterms:modified>
  <cp:revision>54</cp:revision>
  <dc:subject/>
  <dc:title>Your dance performance</dc:title>
</cp:coreProperties>
</file>