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A70-EC22-45C6-8BA3-D00C00D9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5B8-3BC1-4110-A956-00067916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3F2-708F-46A6-BA12-EFBA9EDB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F62-B1F8-4803-A683-C4C93CD7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5943-753E-4C36-8DD1-5B6FF7AF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C273-00E0-4DE1-A815-EE6792C2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6A5E-BFAD-4997-AC35-AB4543A8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5F9B-2614-40E9-92BB-B46D6A92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EE9C-28ED-41AA-BB01-7D2DDDDE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C0DA-B6D6-45D9-A431-F65A7B10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59F9-9995-4137-AB8E-AC85333D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69D-CD79-4341-8C2F-D3682628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FA1E-3E41-4526-A47A-0183CD4B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F1A3-DBE9-4DB3-84EA-EDC8CD26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90CB-7390-46E4-9BA0-E4C16185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4D8E-84DA-4AAB-963C-00CD08BE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1360-1641-486E-A2A2-0A4CF7EB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3D2B-6261-4EF4-A60C-741ED31F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B7E44-5F89-4750-8810-A0AB84C7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EE8BC-599A-4F5C-9804-76376E42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26DA1-F3F0-4E04-8D96-9BE9A68E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90F22-A7C4-4347-9CCC-8013AAE0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FC3-6FC1-4351-8667-C7E6DDFF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51924-FE92-41BD-B72F-843EA66E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DCDA1-AA2E-4D40-93D2-D5BB2850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0FC95-8D77-425E-B9A2-07A5F496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00951-2255-4083-98F4-FFB5BA56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A24A8-AD9F-49EC-B828-A65AAD65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2DDC-3D64-4A64-953A-93EE3BCB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24604-A4E8-4C6A-885B-408A94C8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BBF0B-7275-471D-9D2B-719C65AE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5722-C608-4988-8533-ED67641C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AE7EC-1520-4D85-877A-C3E1F944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C72-8538-4696-811D-15FF44D0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7F11D-5C2A-4968-A184-98971660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B148-8CA3-4C20-A8EF-6D5D5240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83453-5872-4F9D-ADC4-A20850D1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AF074-6F3C-4C21-9346-C2173BB1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5E68A-493D-4F0C-8054-CC6EABF8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0B780-55F1-4190-AEE0-49F782C1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FE5D8-94CE-4CD0-B0B2-48FE331B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CB96B-85B8-4D27-AD1C-0A833DCB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1F75E-6C42-4CB2-B1A2-01D7E7E8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5A05F-B5DE-45DC-BDF3-B50DECEF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634-76F0-44C0-B270-CD4D2550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DCA4E-E52E-41C3-BED4-38984157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8E37E-252A-4848-9E43-0DF86EBC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3040C-9D14-4288-A354-408731BB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EB8FF-7891-4095-9560-EC606EFB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6E432-ADE2-47B1-B25D-31481CC6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E3871-45C7-4968-BF51-8D8B4181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7350F-6BA1-4494-8999-FB878722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D3A26-898A-4CC1-83B7-20BC057E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CC6E0-0B2F-48B2-8705-6D966539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5C70B-88EF-459A-BDFF-3DD4A1C6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FF8-2366-485A-B5BB-5C9A3AA0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0C125-7EC1-4B3E-87CE-51F5ACE5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21A54-BBCF-4E73-8CBF-84ABFF91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7FD88-3784-460F-A18C-969DF317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1573B-F2E5-4C6C-A9A4-039AF00D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5E9F8-E38C-4E45-BAFA-C111481C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14535-A12E-4734-B958-8CE35787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AE03F-4AF4-4029-B0DE-5B700521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1D512-5F54-4902-892C-3C3C346A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747FD-9B4B-41C8-AAD2-6F3B2B65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9ABC2-C614-4826-B862-38A27CAE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B1B-CF64-421E-B4A0-B0F9A43C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910CB-EC2D-4A9A-B0B3-22EC9B08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84466-B83C-4493-84BD-265D3C12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4159D-5B94-4103-A539-64B4A158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8760D-30FD-416F-B436-D2003793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0F95A-0C70-4335-9007-2C559A21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0D17F-17ED-48D3-9A74-0C603173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3202E-DBEA-421C-A73C-DC48A084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B16B4-65AC-4DF3-A910-B7AFBED3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64A80-780A-4624-BDA4-F3FEB151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4ACC1-DBA8-432A-847F-3E81E379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36C-4129-449B-8420-9277E0B4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7C0BD-5CB2-4282-92B9-E11E4D6B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403A8-1380-41B7-8789-8B9C0FD1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B2F61-3CB3-415F-A660-8DF3B4D6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2AC68-26F4-429F-8B5B-FCB48007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9CC88-3A24-4221-8625-A88C97A6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FCEA3-BB8C-466D-9C95-68A5485F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E15B8-2A6F-40B3-9AFC-6D7D5B43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1CE88-DE0A-4B43-914E-6FE06DCF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F3E9B-BD33-4D94-A8D7-E0BD2467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D3462-D4E6-4540-A77E-00088428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30D-52C4-4C68-8CFC-B098B43E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7AEEA-300B-417F-A866-741F3E88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ACFE0-086F-4A27-BFB5-C8072E48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5AF49-F121-4A9D-9321-E65A1561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33694-067B-4EF7-A133-4A304BED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F5DB1-784F-4366-8928-06D9CCEF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596F6-3326-4874-8E5A-BE374BAC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950A5-C917-467B-ACD9-101FBFE2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B67C-40C0-491E-87F7-F80959C86860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5C23-E373-4710-8471-BCDD0D4BF916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7986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60B7-7C2B-4D7B-96B8-30A8CD7CAF15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3196-1411-4D19-A49F-4663959E6A1E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2433-D096-415B-8AC1-56C430C165F5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C657-FD8F-42CC-BA90-9BC8F8A6012C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A588-A059-413F-AC08-87537A6A6F95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7015-836C-4A64-9672-CDE1EA731BE9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29B4-EDB4-4346-AC4D-CB5C7B7F2CA0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76BC-1C2C-4DD0-BA48-D01552C3DB1C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7C0A-BBA5-4E0A-8518-683A99D4A1D9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53E5-FED2-4B42-9D54-7CC6D8C1FD76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5CAE-0941-4E4D-AEE2-1EC451701621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619B-08FC-46EE-B86A-E75C14A0D525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B493-6FBA-4BB3-8421-3CF0953D5E04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2951-223E-426B-A428-9FD79F5CD09C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Your dance performanc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Garamond"/>
              </a:rPr>
              <a:t>Be Creative  -  Work together – Have Fun  - Rehearse a Lot!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6629400" y="5356080"/>
            <a:ext cx="20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y Lien Indig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horeograph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te the d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rainstorm different dance steps with the tea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spect and include the different ability level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clude all required items in the d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scuss everything with the creative directo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oject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371600" y="1981080"/>
            <a:ext cx="64008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responsible for the final present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 sure everyone participates and pract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rganizes extra meetings if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act dancers who miss a practi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lve problems that aris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act teacher whe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ancer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3680" y="2019240"/>
            <a:ext cx="750708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arn the dance from the choreograph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en to instructions and watches demonstra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actices the steps and asks for help when difficul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ccepts the steps and routines created by the choreographer and the creative directo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ccepts the different abilities of other danc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hearse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371600" y="2211120"/>
            <a:ext cx="6400800" cy="32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ORK TOGETHER AND SHARE IDEA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E CREATIV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EAM WORK WILL BE ASSESS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ETTER EASY STEP AND TOGETHER, THEN DIFFICULT STEPS THAT NO BODY CAN PERFORM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QUALITY OF YOUR PERFORMANCE WILL BE EQUAL TO THE EFFORT YOU PUT INTO I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ASSESSMEN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34560" y="2274480"/>
            <a:ext cx="683748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ILY PROJECT REPORT BY THE PROJECT LEA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GROUP ASSESSMENT ON TEAM MEMBERS CONTRIBU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DIVIDUAL ASSESSMENT OF ALL TEAM MEMB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LF ASSESSMENT ON DANCE SKILL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HOW DO PERFORM ON STAGE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O YOU LOOK AT OTHER DANCERS TO REMEMBER THE ROUTINE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HOW ARE YOU PERFORMING THE DANCE STEPS?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O YOU STAY ON THE BEAT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GROUP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71600" y="2079360"/>
            <a:ext cx="64008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AD THE RESPONSIBILITIES ON HAIKU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ECIDE WHAT JOB YOU WANT TO D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POSE YOUR GROUPS TO ME BY EMAIL!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 WILL DECIDE WHICH GROUPS ARE ACCEPT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OME GROUPS MIGHT NEED TO CHANGE A FEW MEMBERS IN THE GROUP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E WILL START PRACTICE ON MONDA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hat do you need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28680" y="2409480"/>
            <a:ext cx="3232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group of 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Choreograph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Creative Design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Project Lea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nc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Content Placeholder 2"/>
          <p:cNvSpPr/>
          <p:nvPr/>
        </p:nvSpPr>
        <p:spPr>
          <a:xfrm>
            <a:off x="4603680" y="2409840"/>
            <a:ext cx="32320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A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e the SPACE [levels]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nce with EFFOR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ctions – certain step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y on the beat – Temp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rmations – Floor patter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ANC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71600" y="2161800"/>
            <a:ext cx="640080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 min performa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reate a costume OR use a PROP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ick a song with Rhythm you can dance t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ip Hop moves go well with rap music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azz moves go well with popular music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cide on a FAST or SLOW rhythm (slow is easy, but can be tricky too. Sometimes music can be too fast and difficult to follow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ROUP RESPONSIBILITI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71600" y="2242800"/>
            <a:ext cx="64008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HARE YOUR IDEA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PPORT THE DIFFERENT LEVELS IN YOUR GROUP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SPECT YOUR LEAD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AVE AN OPEN MIND ABOUT WHAT THE DANCE  COULD BE LIKE OR LOOK LIKE…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E YOUR TIME WEL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AKE OWNERSHIP OF THE PROJEC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9640" y="1279440"/>
            <a:ext cx="7270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mations &amp; FLOOR PATTER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hoose 5 as your fram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371600" y="2437920"/>
            <a:ext cx="3168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RAIGHT LIN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ZIG ZAG LI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GGER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IAMON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V OR X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692600" y="2476440"/>
            <a:ext cx="316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Content Placeholder 2"/>
          <p:cNvSpPr/>
          <p:nvPr/>
        </p:nvSpPr>
        <p:spPr>
          <a:xfrm>
            <a:off x="4692600" y="2422440"/>
            <a:ext cx="316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GGER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WARD CEN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WAY FROM CEN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URVED LIN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OVE IN A CIRC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8840" y="1060560"/>
            <a:ext cx="737424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quired action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pins – turns – jumps – chainee – box ste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9" name="Content Placeholder 3" descr="JUMP.jpeg"/>
          <p:cNvPicPr/>
          <p:nvPr/>
        </p:nvPicPr>
        <p:blipFill>
          <a:blip r:embed="rId1"/>
          <a:srcRect l="0" t="9448" r="0" b="9448"/>
          <a:stretch/>
        </p:blipFill>
        <p:spPr>
          <a:xfrm>
            <a:off x="888840" y="2244600"/>
            <a:ext cx="2386080" cy="1136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POSES.jpeg"/>
          <p:cNvPicPr/>
          <p:nvPr/>
        </p:nvPicPr>
        <p:blipFill>
          <a:blip r:embed="rId2"/>
          <a:stretch/>
        </p:blipFill>
        <p:spPr>
          <a:xfrm>
            <a:off x="3881520" y="2244600"/>
            <a:ext cx="1285920" cy="1287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POSES 3.jpeg"/>
          <p:cNvPicPr/>
          <p:nvPr/>
        </p:nvPicPr>
        <p:blipFill>
          <a:blip r:embed="rId3"/>
          <a:stretch/>
        </p:blipFill>
        <p:spPr>
          <a:xfrm>
            <a:off x="888840" y="3718080"/>
            <a:ext cx="2360880" cy="1768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POSES 4.jpeg"/>
          <p:cNvPicPr/>
          <p:nvPr/>
        </p:nvPicPr>
        <p:blipFill>
          <a:blip r:embed="rId4"/>
          <a:stretch/>
        </p:blipFill>
        <p:spPr>
          <a:xfrm>
            <a:off x="3413160" y="3718080"/>
            <a:ext cx="2398680" cy="1920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spinning.jpeg"/>
          <p:cNvPicPr/>
          <p:nvPr/>
        </p:nvPicPr>
        <p:blipFill>
          <a:blip r:embed="rId5"/>
          <a:stretch/>
        </p:blipFill>
        <p:spPr>
          <a:xfrm>
            <a:off x="5572080" y="2227320"/>
            <a:ext cx="1004760" cy="149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SPIN jpeg.jpeg"/>
          <p:cNvPicPr/>
          <p:nvPr/>
        </p:nvPicPr>
        <p:blipFill>
          <a:blip r:embed="rId6"/>
          <a:stretch/>
        </p:blipFill>
        <p:spPr>
          <a:xfrm>
            <a:off x="6576840" y="3632040"/>
            <a:ext cx="1530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27160" y="769680"/>
            <a:ext cx="7021440" cy="12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v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E LOW – MEDIUM – HIGH LEVEL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6" name="Content Placeholder 9" descr=""/>
          <p:cNvPicPr/>
          <p:nvPr/>
        </p:nvPicPr>
        <p:blipFill>
          <a:blip r:embed="rId1"/>
          <a:stretch/>
        </p:blipFill>
        <p:spPr>
          <a:xfrm>
            <a:off x="2671920" y="2714760"/>
            <a:ext cx="389232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Your Guiding pap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89640" y="2263680"/>
            <a:ext cx="877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ill out this form while you are working on your dance.  It will help you to include all th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ifferent aspects of a Dance.  Your teacher will collect it for you at the end of each class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9" name="Content Placeholder 3" descr="Screen shot 2013-03-06 at 8.12.47 PM.png"/>
          <p:cNvPicPr/>
          <p:nvPr/>
        </p:nvPicPr>
        <p:blipFill>
          <a:blip r:embed="rId1"/>
          <a:srcRect l="0" t="27699" r="0" b="27699"/>
          <a:stretch/>
        </p:blipFill>
        <p:spPr>
          <a:xfrm>
            <a:off x="1260360" y="2982960"/>
            <a:ext cx="64008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reative directo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 the dance INTRESTING OR SPECIA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cide on the theme, the costume or prop, the music, the beginning and ending pose (or ac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cide everything with the choreograph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1:43:58Z</dcterms:created>
  <dc:creator>Lien  Indigne</dc:creator>
  <dc:description/>
  <dc:language>en-US</dc:language>
  <cp:lastModifiedBy>Lien  Indigne</cp:lastModifiedBy>
  <dcterms:modified xsi:type="dcterms:W3CDTF">2013-03-06T13:40:43Z</dcterms:modified>
  <cp:revision>54</cp:revision>
  <dc:subject/>
  <dc:title>Your dance performance</dc:title>
</cp:coreProperties>
</file>