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7B1-2627-42DB-9E09-6FCEAB4F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D0B-1EE0-4B21-AD51-8C59773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A7A-B7F5-4042-BF88-FB9B1A02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587-2489-46C2-965F-CFC826A6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63C-53BD-408F-B517-E17A66D2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8F0C-9B24-40C8-9C80-07D0AE59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F7F9-6898-472A-874E-4F23D88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90FD-F7DE-4165-B629-958C298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191-0FC0-49E2-BBF2-954CB2F2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553-6D91-47AA-9A91-8D1959E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BDD9-72F1-431F-AEE6-45B02A4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00D-96FD-4B32-A02A-0088C0BA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BC54-3B01-4D6B-9A67-4C8E351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9259-9921-4C24-AA77-89ED28B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89DE-8E93-4F21-B1B8-98278F7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02F0-1A15-499D-AC67-981A0E68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1942-B2A0-4D89-AA41-F5BEB6BD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D33E-9C49-433B-9F70-C7170685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B319-EE06-497A-BEBC-12928255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E924-DD09-41E5-82F4-A24258AD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E0CC-A9C5-4F0F-B61B-5D74428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5533-0160-411D-AB5A-6CBAEF4F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3E5-E077-43AB-BAC0-380FFECE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8C2F-A9EA-4548-AAAC-CDAE4AE2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A82E-0AAC-440B-98D6-8E5AE8F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3EAD-772A-411B-AA51-753C8C0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49B3-F727-4244-8FDB-BC4F46D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DAFD-6AB5-470B-8130-6AE1911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7B59-6689-4424-B2F5-07F77542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40A7-19D6-4C52-9D60-23F286C4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2936-4B94-4DE4-BD11-27510478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1EBC-7675-4D75-9BB3-BECD6CC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A4A2-E4C0-49DB-BB12-B1FC318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B22-A5E9-436E-A4C7-B1FCF3ED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5B4F-DDEF-46CE-BEAE-4614754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17BA-57A1-444D-BFAA-6C346663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CB89-3F6A-4551-81B7-4960B28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2CA6-3415-433E-AB5E-B82D8DB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C036-9ED0-4FBB-8DCC-AD99933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98C1-1591-43C3-99E6-35CB7E4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A852-EF3F-402E-A700-D16505AC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E1D6-04F9-4CB9-8003-EEF53968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D88A-29AC-4ABB-AD82-3F98AA36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8730-33A0-410E-AE01-0314571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89C-4E7F-4EDB-9997-60FCD6E5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860D-3D48-431E-9857-687D054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B8429-F26F-4CFB-9D88-3FCA6A4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D86D-9BD6-4563-8CA8-604B890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9663-2588-484A-A773-8F9FBC8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7D04-677D-4AFA-9229-3CDD557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8C64-DCC1-449C-A721-74CD02D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F66E-BB88-4E02-A979-3F0B31C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03CB-E642-48B0-959F-C5CD379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28A3-6CE5-436C-9567-C536D65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8659-4ED0-4A49-BBED-6A407BE8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2F8-69B6-49E2-A3C3-14A6D06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0391-D216-4F76-AFA5-740DD411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BCA2-A4D3-4265-8E54-B3CB2CD5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7A784-A1B8-4511-9FD5-66FC0A79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1204-9B75-4DA0-A0C8-FB52AF34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3B6A-3D56-4034-A747-C9CA7AE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1E4D3-79F7-4DC1-8BA6-93C7EE7F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F5B0-0299-41C7-951A-BA57C1CB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9A6BB-F4B9-4A94-8405-8D1684A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350B-613C-4A59-ADC2-66B73048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DD16-828B-4FB4-97DB-81FC7BF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E2F-5682-4D7B-88A4-3B9BEE6E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A92D-57D4-46B3-B99A-F8CEE80C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BC49-BAE2-4417-A87B-A121D483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4C32-C2AB-4FB2-8BC1-EB91D855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13C8-FD96-4061-B5B9-FF8BDCC9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60235-CAAA-4552-A562-81C489E8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DF3C-9128-4D4A-A47A-F9DE60FD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3AC62-677E-4D0F-B2AC-FACABA4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7FDE-BD05-4046-B3EF-864A1917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6FC09-9017-4E95-A6D9-36F6CDD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5BE0F-EEF0-434D-984F-527215C0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896-4655-4F01-9D14-1B4E9E78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D53C1-39B2-4325-B1B2-AF605F26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9D7D-5A94-4630-8362-847F1D2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D4E80-DC6F-4E24-B212-5EF133BE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C6F5-1575-4C2A-9FB9-C93E540F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2CE1-9471-478A-8540-F74BFF3A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5BDE-8373-4FDF-B1C8-223857AD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7E3E-ED93-43F7-9447-1357E16E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26CC3-D774-469D-95CE-9B092DB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D279B-2346-4D3C-B679-DDF3A3B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AE6EA-9A81-4EE8-BE3C-E2FD8C46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1A7-965A-481C-A894-23CC710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6972-16FF-4428-A403-17F7E8C9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9410B-17A7-477C-B959-D8869F8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798D-3227-48ED-9314-F566A1E2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8261A-A8F2-4A1E-8A50-2680291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C83AE-C1C5-426E-9BA1-51E15F7E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55C2D-5791-41EE-8A9D-5BB3FB5C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F9655-90F9-4ACF-8B62-420E98F4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C5F5-7AFE-4E1A-96E0-956FE40DD45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62EA-2DFF-4CFE-B946-33F80F75CD8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7986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9D1-FC4A-49A6-BC4A-24037CEBF227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FBA-CFBC-4FE8-89B3-66D932ED036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13EA-B090-457F-8B73-120B26046F61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514F-6B82-4803-BA96-3746A2F6A55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DE0C-C5FC-49A2-8E2A-439A861C3F9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827-0A25-4D24-B881-B6593040EBF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DF4-78FB-4B2F-B2F7-80E162F7AF8D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66CC-2B17-4DED-8799-8B3D66AC97F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94D9-481B-45AC-B137-73FCA206F626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DA9A-7A20-4A46-98D0-DFCF3D5DEAE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D2F-BD74-4CA8-BADB-CA6B5CA2B3B3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92ED-A3A5-4B5B-A38D-DADFFAB819E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968-7284-48A3-88F5-FFFEA2002F0D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5A6F-272E-4B8B-BAA1-321B41CA6A3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dance performan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e Creative  -  Work together – Have Fun  - Rehearse a Lot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6629400" y="53560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y Lien Indig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horeograph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te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rainstorm different dance steps with the tea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spect and include the different ability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clude all required items in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cuss everything with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ject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1981080"/>
            <a:ext cx="6400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responsible for the final presen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sure everyone participates and pract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es extra meetings if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dancers who miss a pract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lve problems that ari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teacher whe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3680" y="2019240"/>
            <a:ext cx="7507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arn the dance from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en to instructions and watches demonstr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actices the steps and asks for help when difficul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steps and routines created by the choreographer and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different abilities of other danc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hearse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211120"/>
            <a:ext cx="640080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ORK TOGETHER AND SHARE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 CREATIV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AM WORK WILL BE ASSES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TTER EASY STEP AND TOGETHER, THEN DIFFICULT STEPS THAT NO BODY CAN PERFOR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QUALITY OF YOUR PERFORMANCE WILL BE EQUAL TO THE EFFORT YOU PUT INTO I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34560" y="2274480"/>
            <a:ext cx="683748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ILY PROJECT REPORT BY THE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ROUP ASSESSMENT ON TEAM MEMBERS CONTRIBU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DIVIDUAL ASSESSMENT OF ALL TEAM MEMB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LF ASSESSMENT ON DANCE SKILL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DO PERFORM ON STAG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LOOK AT OTHER DANCERS TO REMEMBER THE ROUTIN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ARE YOU PERFORMING THE DANCE STEPS?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STAY ON THE BEAT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079360"/>
            <a:ext cx="6400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AD THE RESPONSIBILITIES ON HAIK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CIDE WHAT JOB YOU WANT TO D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POSE YOUR GROUPS TO ME BY EMAIL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 WILL DECIDE WHICH GROUPS ARE ACCEPT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ME GROUPS MIGHT NEED TO CHANGE A FEW MEMBERS IN THE GROUP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E WILL START PRACTICE ON MONDA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do you ne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28680" y="2409480"/>
            <a:ext cx="3232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group of 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horeograph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reative Design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3680" y="2409840"/>
            <a:ext cx="3232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the SPACE [levels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 with EFFOR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tions – certain ste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y on the beat – Temp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rmations – Floor patter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161800"/>
            <a:ext cx="64008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 min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reate a costume OR use a PROP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ck a song with Rhythm you can dance t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p Hop moves go well with rap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azz moves go well with popular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cide on a FAST or SLOW rhythm (slow is easy, but can be tricky too. Sometimes music can be too fast and difficult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 RESPONSIBILIT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242800"/>
            <a:ext cx="6400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RE YOUR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PPORT THE DIFFERENT LEVELS IN YOUR GROU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PECT YOUR LEAD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VE AN OPEN MIND ABOUT WHAT THE DANCE  COULD BE LIKE OR LOOK LIKE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YOUR TIME W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AKE OWNERSHIP OF THE PROJEC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127944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mations &amp; FLOOR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ose 5 as your fram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31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RAIGHT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IG ZAG LI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 OR X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692600" y="2476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692600" y="2422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WARD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WAY FROM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URVED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OVE IN A 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060560"/>
            <a:ext cx="73742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quired action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ins – turns – jumps – chainee – box st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Content Placeholder 3" descr="JUMP.jpeg"/>
          <p:cNvPicPr/>
          <p:nvPr/>
        </p:nvPicPr>
        <p:blipFill>
          <a:blip r:embed="rId1"/>
          <a:srcRect l="0" t="9448" r="0" b="9448"/>
          <a:stretch/>
        </p:blipFill>
        <p:spPr>
          <a:xfrm>
            <a:off x="888840" y="2244600"/>
            <a:ext cx="2386080" cy="11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POSES.jpeg"/>
          <p:cNvPicPr/>
          <p:nvPr/>
        </p:nvPicPr>
        <p:blipFill>
          <a:blip r:embed="rId2"/>
          <a:stretch/>
        </p:blipFill>
        <p:spPr>
          <a:xfrm>
            <a:off x="3881520" y="224460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POSES 3.jpeg"/>
          <p:cNvPicPr/>
          <p:nvPr/>
        </p:nvPicPr>
        <p:blipFill>
          <a:blip r:embed="rId3"/>
          <a:stretch/>
        </p:blipFill>
        <p:spPr>
          <a:xfrm>
            <a:off x="888840" y="3718080"/>
            <a:ext cx="2360880" cy="176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POSES 4.jpeg"/>
          <p:cNvPicPr/>
          <p:nvPr/>
        </p:nvPicPr>
        <p:blipFill>
          <a:blip r:embed="rId4"/>
          <a:stretch/>
        </p:blipFill>
        <p:spPr>
          <a:xfrm>
            <a:off x="3413160" y="3718080"/>
            <a:ext cx="2398680" cy="1920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pinning.jpeg"/>
          <p:cNvPicPr/>
          <p:nvPr/>
        </p:nvPicPr>
        <p:blipFill>
          <a:blip r:embed="rId5"/>
          <a:stretch/>
        </p:blipFill>
        <p:spPr>
          <a:xfrm>
            <a:off x="5572080" y="2227320"/>
            <a:ext cx="100476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PIN jpeg.jpeg"/>
          <p:cNvPicPr/>
          <p:nvPr/>
        </p:nvPicPr>
        <p:blipFill>
          <a:blip r:embed="rId6"/>
          <a:stretch/>
        </p:blipFill>
        <p:spPr>
          <a:xfrm>
            <a:off x="6576840" y="3632040"/>
            <a:ext cx="1530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7160" y="769680"/>
            <a:ext cx="7021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 LOW – MEDIUM – HIGH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Content Placeholder 9" descr=""/>
          <p:cNvPicPr/>
          <p:nvPr/>
        </p:nvPicPr>
        <p:blipFill>
          <a:blip r:embed="rId1"/>
          <a:stretch/>
        </p:blipFill>
        <p:spPr>
          <a:xfrm>
            <a:off x="2671920" y="2714760"/>
            <a:ext cx="38923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Guiding pap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89640" y="2263680"/>
            <a:ext cx="87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ll out this form while you are working on your dance.  It will help you to include all th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ifferent aspects of a Dance.  Your teacher will collect it for you at the end of each class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9" name="Content Placeholder 3" descr="Screen shot 2013-03-06 at 8.12.47 PM.png"/>
          <p:cNvPicPr/>
          <p:nvPr/>
        </p:nvPicPr>
        <p:blipFill>
          <a:blip r:embed="rId1"/>
          <a:srcRect l="0" t="27699" r="0" b="27699"/>
          <a:stretch/>
        </p:blipFill>
        <p:spPr>
          <a:xfrm>
            <a:off x="1260360" y="2982960"/>
            <a:ext cx="6400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reative direc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the dance INTRESTING OR SPECI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on the theme, the costume or prop, the music, the beginning and ending pose (or ac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everything with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43:58Z</dcterms:created>
  <dc:creator>Lien  Indigne</dc:creator>
  <dc:description/>
  <dc:language>en-US</dc:language>
  <cp:lastModifiedBy>Lien  Indigne</cp:lastModifiedBy>
  <dcterms:modified xsi:type="dcterms:W3CDTF">2013-03-06T13:40:43Z</dcterms:modified>
  <cp:revision>54</cp:revision>
  <dc:subject/>
  <dc:title>Your dance performance</dc:title>
</cp:coreProperties>
</file>