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49F-8C28-4D56-B9BD-5C9C109F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52F-3902-4BBC-A94B-69B6588D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935-C8FB-4978-B627-7794418A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180-6FD5-42F9-BAB8-C7FA46E1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870B-FB15-4193-A542-8147680F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CD54-E0B8-4ED0-BA73-0BF73E57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16C6-24B8-4E20-A27B-D34AEA46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D8B0-38FC-4696-9688-79842538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74B0-6C0F-4451-B9D8-245CF482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AD4C-BC32-4F54-A19C-22C0C99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47D0-1DAC-4950-8D5C-57094FCF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9C0-570D-4B0E-B513-F6D8E75A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1B14-97C1-41F3-BB7B-B58F57D2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3E8E-605F-4DBE-849B-A0752626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8B1E-3317-46C2-BBD6-96A2751A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B0E3-595B-471E-AAC5-1978AED6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0224-FC4C-4CD6-AD1A-B7016B7D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DF64-8334-444C-BF17-F87A0283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7717-EFAE-4935-BD26-0E856F9E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8F9BB-FB36-43BC-980F-02D87BBB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8762-0A57-4563-816E-25160E3C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D1F4-3109-47A1-BE80-E39E342B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1AE-BB10-470D-93A3-ED96E5EE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2052-3679-4FBF-9B50-9B42FC45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0EE5-E437-4BF5-A8B1-7E38744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643D-D8BC-439F-97A4-E5B38290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442B-3FB6-4651-AD59-DA014773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E770-B188-4F60-BF9E-F25C604A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29B2-03B1-4965-BC73-791B0D67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94ED4-652D-4A7B-9828-F085C3E9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936E3-ABD0-4F33-B23F-8E58AD9D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7B3E-A259-4905-9815-DC9FAA83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7E5B-7AD5-4670-B56D-7C29C302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6C1-D1CA-4B2F-810F-04A0430B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7ED04-9822-497B-88F1-51EE59F5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D611-4AAE-4223-ACB5-DB2A9BE1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A6DD-469F-46A1-84C0-7B6E996A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2664-704F-4C89-9CEA-65C81154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C493-FA61-4214-B542-ADD60C33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AA2C-0562-44D1-87F3-D232738F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F677-5DAD-40A2-8ECF-EB4AA80E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4EE8F-70F1-466C-8E93-6E0D5C9D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36DC8-012D-4A24-8E89-9227992F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E3E5-6D48-4D97-A3A2-77758793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F55-738E-48B3-8B40-D97E3B11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C2CFE-C226-4E63-9F99-F9CEC394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8DEFA-948F-4A36-AF69-616E6C37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3FB6A-4F8A-45E5-AD20-B852ADD0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21C46-9159-4C32-A8C2-C3EA7C94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8A93E-DBA9-4ECA-895C-32CA7CCB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2AE3-A803-482F-BD61-59E9140C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C7CD3-9106-46D8-8F44-764785BB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17ECF-0DAE-439A-9887-EB875D7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BD1BF-EA7C-43A2-A5F2-4004C5A1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CC336-92A7-4942-B62E-3C6CF49D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640-5D9D-4D01-A7C4-DADCC9EA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BF527-F7BE-4121-B915-89E5D81A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0A74B-4A10-447A-80EC-73470D99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ADA14-DC41-4008-AE3C-114213BA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4EDF4-9C22-4E97-A67E-F15AB810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D1D45-5E08-42CB-B52C-131C562C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47BE5-DD69-47FE-BA53-DA02D3EA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9CC5E-83D3-4531-9ED3-5664D6F1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C54F1-874D-4E0F-A660-96A3B544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2B2F2-DB38-4E68-B35B-EE39D704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15D5D-B5CB-4479-806D-EF787FE1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5EA-EFF2-4063-ADA9-F550704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EC667-56F7-407C-9E61-15187FB1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58B4-2992-4934-87A9-CFF5AE38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E6C51-353D-4AC0-9366-D4F34E33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1645-82DB-4644-976E-7CA1C4F9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557E7-D375-44F3-AD05-A4E6BBFE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B7DC5-9BBB-4DFE-8FDE-35E4A1D8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21A4B-A991-4F6E-9B6B-D75BB80F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8EE3B-C835-4147-86E2-EE0778AC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79070-8815-4C14-97E4-E0A462ED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C928F-021F-4DB2-B1C0-B84B5D61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C1C-1F24-44B9-945C-21EAB73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5AFF4-2ED5-44C9-A76D-69FF8A49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6B1CA-6B29-4E47-AE3A-5FE7F0B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82081-DDE2-4B01-89DC-19ABDE56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6DB0E-28BE-438E-B333-5D205E2B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16B69-D8AF-4954-A69A-A18663CA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420B1-DCBC-438E-946B-4074691B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65BBE-06A4-4F90-A077-C405B74C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5AE42-8BFA-4CB1-8E5C-B706A687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17517-129C-4F29-B0C8-CC9B0FD5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5C0F1-549B-4088-B698-865AAB80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F9C-67E8-458E-B75F-686EF7FE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73F7D-7772-44CF-BE38-B5ACF0F8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FB8D3-01F1-4AF7-89E0-DEE98026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EFA95-2746-4DB0-B58F-9C550ACF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60057-4865-4F04-B26C-C62FA149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AFFFD-AE8D-49D7-9B02-730C3D0C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2C91E-7D83-43C8-82EE-11C596DD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CAA97-1811-451A-B377-A2FB8315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EBF3-2109-41E4-9850-72AF11AF03FE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D63A-88C2-43EC-971E-B3FCB14FDD1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7986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9B39-F9DA-4731-9D1F-67600F2393D5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F4A1-EFC4-44CD-A53C-3FBB28DCCA9D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0F1A-450C-4087-A361-5275C0EF6D1A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AF8B-1C53-4D00-92BA-97547E0809F1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CCD2-6CFE-47A3-B769-F889CF47918A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57C9-AB28-4BEA-B40E-4BFECF38F19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2BBC-49E7-49AA-8560-38C3A1F68BF4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3260-122A-4361-91FB-B5E88632AB44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F7AC-62D8-4EEB-A0D3-9AD8D768F7A5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2A13-2D36-44C5-8D8F-E62B9CF5D30F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80B3-418D-40F2-870A-34CCD80A3356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7C2A-03BE-4656-BCFD-0961B052B6F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9901-E1A3-403A-8C74-4A14AA686263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B526-EE13-4A82-AAC3-8AC8797CAEAC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dance performanc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Be Creative  -  Work together – Have Fun  - Rehearse a Lot!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6629400" y="5356080"/>
            <a:ext cx="20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y Lien Indig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horeograph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te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rainstorm different dance steps with the tea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spect and include the different ability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clude all required items in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cuss everything with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oject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71600" y="1981080"/>
            <a:ext cx="64008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responsible for the final presen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sure everyone participates and pract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ganizes extra meetings if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dancers who miss a practi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lve problems that aris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teacher whe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3680" y="2019240"/>
            <a:ext cx="75070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arn the dance from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en to instructions and watches demonstra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actices the steps and asks for help when difficul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steps and routines created by the choreographer and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different abilities of other danc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hearse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211120"/>
            <a:ext cx="6400800" cy="32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ORK TOGETHER AND SHARE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 CREATIV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EAM WORK WILL BE ASSESS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TTER EASY STEP AND TOGETHER, THEN DIFFICULT STEPS THAT NO BODY CAN PERFOR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QUALITY OF YOUR PERFORMANCE WILL BE EQUAL TO THE EFFORT YOU PUT INTO I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34560" y="2274480"/>
            <a:ext cx="683748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ILY PROJECT REPORT BY THE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GROUP ASSESSMENT ON TEAM MEMBERS CONTRIBU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DIVIDUAL ASSESSMENT OF ALL TEAM MEMB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LF ASSESSMENT ON DANCE SKILL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DO PERFORM ON STAG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LOOK AT OTHER DANCERS TO REMEMBER THE ROUTIN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ARE YOU PERFORMING THE DANCE STEPS?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STAY ON THE BEAT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079360"/>
            <a:ext cx="64008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AD THE RESPONSIBILITIES ON HAIK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CIDE WHAT JOB YOU WANT TO D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POSE YOUR GROUPS TO ME BY EMAIL!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 WILL DECIDE WHICH GROUPS ARE ACCEPT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OME GROUPS MIGHT NEED TO CHANGE A FEW MEMBERS IN THE GROUP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E WILL START PRACTICE ON MONDA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do you ne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28680" y="2409480"/>
            <a:ext cx="3232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group of 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horeograph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reative Design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4603680" y="2409840"/>
            <a:ext cx="32320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A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the SPACE [levels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 with EFFOR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ctions – certain step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y on the beat – Temp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rmations – Floor patter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71600" y="2161800"/>
            <a:ext cx="640080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 min performa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reate a costume OR use a PROP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ick a song with Rhythm you can dance t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p Hop moves go well with rap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azz moves go well with popular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cide on a FAST or SLOW rhythm (slow is easy, but can be tricky too. Sometimes music can be too fast and difficult to follow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ROUP RESPONSIBILITI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71600" y="2242800"/>
            <a:ext cx="64008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ARE YOUR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PPORT THE DIFFERENT LEVELS IN YOUR GROU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SPECT YOUR LEAD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AVE AN OPEN MIND ABOUT WHAT THE DANCE  COULD BE LIKE OR LOOK LIKE…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YOUR TIME W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AKE OWNERSHIP OF THE PROJEC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640" y="1279440"/>
            <a:ext cx="7270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mations &amp; FLOOR PATTER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hoose 5 as your fram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2437920"/>
            <a:ext cx="3168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RAIGHT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ZIG ZAG LI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MON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 OR X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692600" y="2476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4692600" y="2422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WARD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WAY FROM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URVED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OVE IN A 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8840" y="1060560"/>
            <a:ext cx="73742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quired action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ins – turns – jumps – chainee – box ste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9" name="Content Placeholder 3" descr="JUMP.jpeg"/>
          <p:cNvPicPr/>
          <p:nvPr/>
        </p:nvPicPr>
        <p:blipFill>
          <a:blip r:embed="rId1"/>
          <a:srcRect l="0" t="9448" r="0" b="9448"/>
          <a:stretch/>
        </p:blipFill>
        <p:spPr>
          <a:xfrm>
            <a:off x="888840" y="2244600"/>
            <a:ext cx="2386080" cy="1136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POSES.jpeg"/>
          <p:cNvPicPr/>
          <p:nvPr/>
        </p:nvPicPr>
        <p:blipFill>
          <a:blip r:embed="rId2"/>
          <a:stretch/>
        </p:blipFill>
        <p:spPr>
          <a:xfrm>
            <a:off x="3881520" y="2244600"/>
            <a:ext cx="1285920" cy="1287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POSES 3.jpeg"/>
          <p:cNvPicPr/>
          <p:nvPr/>
        </p:nvPicPr>
        <p:blipFill>
          <a:blip r:embed="rId3"/>
          <a:stretch/>
        </p:blipFill>
        <p:spPr>
          <a:xfrm>
            <a:off x="888840" y="3718080"/>
            <a:ext cx="2360880" cy="1768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POSES 4.jpeg"/>
          <p:cNvPicPr/>
          <p:nvPr/>
        </p:nvPicPr>
        <p:blipFill>
          <a:blip r:embed="rId4"/>
          <a:stretch/>
        </p:blipFill>
        <p:spPr>
          <a:xfrm>
            <a:off x="3413160" y="3718080"/>
            <a:ext cx="2398680" cy="1920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spinning.jpeg"/>
          <p:cNvPicPr/>
          <p:nvPr/>
        </p:nvPicPr>
        <p:blipFill>
          <a:blip r:embed="rId5"/>
          <a:stretch/>
        </p:blipFill>
        <p:spPr>
          <a:xfrm>
            <a:off x="5572080" y="2227320"/>
            <a:ext cx="1004760" cy="149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SPIN jpeg.jpeg"/>
          <p:cNvPicPr/>
          <p:nvPr/>
        </p:nvPicPr>
        <p:blipFill>
          <a:blip r:embed="rId6"/>
          <a:stretch/>
        </p:blipFill>
        <p:spPr>
          <a:xfrm>
            <a:off x="6576840" y="3632040"/>
            <a:ext cx="1530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27160" y="769680"/>
            <a:ext cx="7021440" cy="12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v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 LOW – MEDIUM – HIGH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6" name="Content Placeholder 9" descr=""/>
          <p:cNvPicPr/>
          <p:nvPr/>
        </p:nvPicPr>
        <p:blipFill>
          <a:blip r:embed="rId1"/>
          <a:stretch/>
        </p:blipFill>
        <p:spPr>
          <a:xfrm>
            <a:off x="2671920" y="2714760"/>
            <a:ext cx="389232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Guiding pap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89640" y="2263680"/>
            <a:ext cx="877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ll out this form while you are working on your dance.  It will help you to include all th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ifferent aspects of a Dance.  Your teacher will collect it for you at the end of each class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9" name="Content Placeholder 3" descr="Screen shot 2013-03-06 at 8.12.47 PM.png"/>
          <p:cNvPicPr/>
          <p:nvPr/>
        </p:nvPicPr>
        <p:blipFill>
          <a:blip r:embed="rId1"/>
          <a:srcRect l="0" t="27699" r="0" b="27699"/>
          <a:stretch/>
        </p:blipFill>
        <p:spPr>
          <a:xfrm>
            <a:off x="1260360" y="2982960"/>
            <a:ext cx="6400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reative directo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the dance INTRESTING OR SPECI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on the theme, the costume or prop, the music, the beginning and ending pose (or ac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everything with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1:43:58Z</dcterms:created>
  <dc:creator>Lien  Indigne</dc:creator>
  <dc:description/>
  <dc:language>en-US</dc:language>
  <cp:lastModifiedBy>Lien  Indigne</cp:lastModifiedBy>
  <dcterms:modified xsi:type="dcterms:W3CDTF">2013-03-06T13:40:43Z</dcterms:modified>
  <cp:revision>54</cp:revision>
  <dc:subject/>
  <dc:title>Your dance performance</dc:title>
</cp:coreProperties>
</file>