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307-B0F0-4EDE-865C-EF8C293C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BED1-99ED-41A9-A9A0-658C5B92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9AFA-B002-4884-9C85-BCB37830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B4D5-7011-428F-88A4-7F1091AC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F8E1-648F-4798-8CF9-4754FFDF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3826-1D72-48C3-B1E7-C619E7E9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C5EB-3FFE-4136-8D58-F5901480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5208-6003-4EBD-AD06-4E8FEAD0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04B9-E0CD-492B-A790-2C60FC48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51D6-90C9-4AA2-86EF-C02FE59E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231E-0A49-4003-91C3-4640F8B3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864-D5C9-49E4-B0E9-C581BC6A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3FA9-8742-445E-B98F-F69295E0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B863-7D11-49EC-9B12-E0FE8CF0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6F79-DFDD-404E-A301-24DB417E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F18C-A4E4-4D39-9FA9-94CEC468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73EA-CA77-4E69-AD32-FCF3030E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3A161-9D27-4C49-8A84-E1D988FD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F2AC2-9520-4689-B0F9-DC50A3D1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682A2-F310-4213-8415-1B1875DB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88EBA-F1B9-4E9A-B406-70B526BA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3570E-EC72-4446-95AF-5C96F14D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41B-CDEA-4A91-9262-EB4172FF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52140-5A1D-4622-8AB6-358A206E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9DE88-CC4C-4D2F-9B69-178FA8B2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D8B40-7F0C-4E86-9BB7-4CDE35CD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8B409-2AAE-4281-B22C-DC2F3003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2A188-F4D2-44C6-9FE1-F136E814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D5E4B-04E9-476E-B680-BDEC959E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DE922-04F9-4882-B16C-1723C8D1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A415D-6B09-4CE9-B5E0-E086FA7C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E73DD-5991-46FC-8BE3-8878DA8C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0C64E-7DE9-4A61-98B7-DBFDA94D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8DBB-8EC0-4206-AA1C-DB836D03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E5C41-7246-4932-8731-73789B91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DBB2C-F28A-420E-86B1-2957CBCB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0444B-E43C-4C3A-BC12-F3D3EE83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F728E-F0D2-4F72-83D2-A1D737DE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C747B-5C26-4763-A912-83AB1B9F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6D80C-6467-42D1-9429-BF49EE82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B8153-4179-4AC2-81DF-DE4E542F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46593-E374-4C27-B4E5-32AFE168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EC341-0E2C-46FA-B653-CF24F19D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DFA2E-2F49-4A12-A0C8-930D23F0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7E2-8CB1-465A-87DA-BC20385C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ED0F2-3B17-46C6-9BF4-86C6A42D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B9A49-63BD-4445-B6D8-84DE3C31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67A12-42BF-4612-BE93-C48C23D3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D4E23-FFB0-4DD0-B85A-932B5AC0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3DE24-5781-4F65-9E90-E7816C07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AC7D0-1628-4764-944F-4CAA9AF4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8E778-6F65-472F-BB5E-16E49A4A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19662-975E-40F8-A176-ABC2A844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50065-71CC-442E-9128-FE606872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BCB56-499A-4A6D-91EB-8A2C3D00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BDA-A895-4A1F-8B65-3BE412B8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D8CB3-D256-44BE-A489-3F60A3C4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BC98F-BA68-4FF5-9355-A53AE071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E776D-68CB-4654-967B-599BB33B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4B5DE-6C6A-40F2-B75E-A8859BBE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C52C6-5A3E-4A1A-84DC-BFA0E22D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53223-6AF7-47D8-86A4-B398B18E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93A08-4279-4191-A5D9-165E8CE6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E5E70-14DC-419C-B4EF-505AA6DB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887AA-5E9B-4962-9F68-B629260C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950FD-7E48-437B-BF67-1E2BF381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BFD-C1DC-48F2-A671-C1504CD9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48239-ED05-4544-A9B1-5772B2C0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D1506-60AF-431E-BE2F-FC900A30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83344-49EB-4626-92EE-41E3957A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E3E69-063F-4271-B217-7001A1C8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4D724-402B-4403-8BA5-3B782AA0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17D8E-394F-474F-B99E-C051EC35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56117-0DB7-415C-8733-A170A3C8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277A0-E17F-4950-B2D2-479FCDF0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D9614-C6C6-4645-89C9-24AF6B8A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B195B-0AF3-49B7-9DF1-F9075A4F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5EA-60C4-4D26-B97F-85941E30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07995-2E6D-43FD-B414-443B324E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14639-586D-46F7-AF69-97724E8A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E110F-EFD7-4773-8E90-7F4B819D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A4AE2-0E15-4768-98EA-DD0B80E9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0D267-7603-4307-BBB7-F7DB4C41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BC0B5-0B93-463C-9767-72E08D5E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A3479-D558-450E-865F-82E69056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2301C-5D4F-4905-B975-1083CB51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0A596-94E7-462E-BB18-D7A6C6CD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F537E-4968-4F09-BEB6-D06419C1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643-359A-4DA9-A45D-63934004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ED343-B833-43BA-84BB-54627BF0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52949-1DBF-4933-8459-815AFD3F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CBD0E-136D-47C6-9E74-5E22F95A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7A805-05FD-4CEB-A51F-30BC181F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00116-9824-483D-8000-0D9A6B96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9F25A-52C3-4CC9-974A-DBFEE853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2DD18-A1EB-44F5-8961-168972E2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1CE4-EC74-4F9A-8877-80F17F6F9F36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E577-BB8D-4561-852F-763581049A47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0" y="27986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BFD8-5653-4CBF-AE68-40F8574E37EB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02BE-7C13-46AF-A6DB-CF180A9CE822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flourish2.png"/>
          <p:cNvPicPr/>
          <p:nvPr/>
        </p:nvPicPr>
        <p:blipFill>
          <a:blip r:embed="rId3"/>
          <a:stretch/>
        </p:blipFill>
        <p:spPr>
          <a:xfrm>
            <a:off x="0" y="16160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4C18-09D8-4674-90C9-E969FCD4CC0D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88D8-6EB5-4B0B-B103-C48803A12674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B64E-D067-43D7-A693-90B71C5AC000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C80C-F563-46B3-AF3F-F484B17838F7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flourish2.png"/>
          <p:cNvPicPr/>
          <p:nvPr/>
        </p:nvPicPr>
        <p:blipFill>
          <a:blip r:embed="rId3"/>
          <a:stretch/>
        </p:blipFill>
        <p:spPr>
          <a:xfrm>
            <a:off x="0" y="16160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BB86-C5C5-4F8E-A3F6-DB3B499F70D6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F2D5-57C4-4D7D-9D67-062497CEB7B1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1DC1-6808-4916-A25C-2FA113421B1F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929A-CCBF-49FF-826B-B41E7979EAC5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flourish2.png"/>
          <p:cNvPicPr/>
          <p:nvPr/>
        </p:nvPicPr>
        <p:blipFill>
          <a:blip r:embed="rId3"/>
          <a:stretch/>
        </p:blipFill>
        <p:spPr>
          <a:xfrm>
            <a:off x="0" y="1616040"/>
            <a:ext cx="9144000" cy="938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549F-9832-4E39-8A51-EB2B734B20B4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86AC-293B-4441-9DC1-0DC7902665F4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7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DC22-C0F8-4818-8D12-2684D496E930}" type="datetime"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614A-5A3C-4703-AB20-9E9BD67D98A4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Your dance performanc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Garamond"/>
              </a:rPr>
              <a:t>Be Creative  -  Work together – Have Fun  - Rehearse a Lot!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TextBox 3"/>
          <p:cNvSpPr/>
          <p:nvPr/>
        </p:nvSpPr>
        <p:spPr>
          <a:xfrm>
            <a:off x="6629400" y="5356080"/>
            <a:ext cx="20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y Lien Indig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horeograph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ate the d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rainstorm different dance steps with the tea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spect and include the different ability level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clude all required items in the d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74960" indent="5274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scuss everything with the creative directo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oject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371600" y="1981080"/>
            <a:ext cx="64008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responsible for the final present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ke sure everyone participates and practic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rganizes extra meetings if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act dancers who miss a practi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lve problems that aris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188640" indent="568821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act teacher whe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dancer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3680" y="2019240"/>
            <a:ext cx="750708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earn the dance from the choreograph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sten to instructions and watches demonstratio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actices the steps and asks for help when difficul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ccepts the steps and routines created by the choreographer and the creative directo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16000" indent="651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ccepts the different abilities of other danc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hearse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371600" y="2211120"/>
            <a:ext cx="6400800" cy="32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ORK TOGETHER AND SHARE IDEA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E CREATIV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EAM WORK WILL BE ASSESS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ETTER EASY STEP AND TOGETHER, THEN DIFFICULT STEPS THAT NO BODY CAN PERFORM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QUALITY OF YOUR PERFORMANCE WILL BE EQUAL TO THE EFFORT YOU PUT INTO IT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65372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ASSESSMEN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34560" y="2274480"/>
            <a:ext cx="683748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AILY PROJECT REPORT BY THE PROJECT LEAD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GROUP ASSESSMENT ON TEAM MEMBERS CONTRIBUTIO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DIVIDUAL ASSESSMENT OF ALL TEAM MEMBE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LF ASSESSMENT ON DANCE SKILL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HOW DO PERFORM ON STAGE?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DO YOU LOOK AT OTHER DANCERS TO REMEMBER THE ROUTINE?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HOW ARE YOU PERFORMING THE DANCE STEPS?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DO YOU STAY ON THE BEAT?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GROUP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71600" y="2079360"/>
            <a:ext cx="64008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EAD THE RESPONSIBILITIES ON HAIKU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ECIDE WHAT JOB YOU WANT TO D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ROPOSE YOUR GROUPS TO ME BY EMAIL!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 WILL DECIDE WHICH GROUPS ARE ACCEPT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OME GROUPS MIGHT NEED TO CHANGE A FEW MEMBERS IN THE GROUP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46960" indent="74463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E WILL START PRACTICE ON MONDAY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What do you need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28680" y="2409480"/>
            <a:ext cx="32320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group of 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Choreograph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Creative Design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Project Lead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ance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Content Placeholder 2"/>
          <p:cNvSpPr/>
          <p:nvPr/>
        </p:nvSpPr>
        <p:spPr>
          <a:xfrm>
            <a:off x="4603680" y="2409840"/>
            <a:ext cx="32320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A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se the SPACE [levels]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ance with EFFOR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ctions – certain step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y on the beat – Temp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rmations – Floor patter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DANCE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371600" y="2161800"/>
            <a:ext cx="640080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81974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 min performan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81974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reate a costume OR use a PROP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81974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ick a song with Rhythm you can dance t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8680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ip Hop moves go well with rap music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8680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Jazz moves go well with popular music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86800" indent="-18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cide on a FAST or SLOW rhythm (slow is easy, but can be tricky too. Sometimes music can be too fast and difficult to follow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ROUP RESPONSIBILITI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371600" y="2242800"/>
            <a:ext cx="640080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HARE YOUR IDEA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UPPORT THE DIFFERENT LEVELS IN YOUR GROUP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ESPECT YOUR LEADE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AVE AN OPEN MIND ABOUT WHAT THE DANCE  COULD BE LIKE OR LOOK LIKE…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SE YOUR TIME WEL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6080" indent="68258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AKE OWNERSHIP OF THE PROJEC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9640" y="1279440"/>
            <a:ext cx="7270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rmations &amp; FLOOR PATTER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hoose 5 as your fram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371600" y="2437920"/>
            <a:ext cx="3168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RAIGHT LIN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IRC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ZIG ZAG LI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GGER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IAMON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58108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V OR X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692600" y="2476440"/>
            <a:ext cx="316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Content Placeholder 2"/>
          <p:cNvSpPr/>
          <p:nvPr/>
        </p:nvSpPr>
        <p:spPr>
          <a:xfrm>
            <a:off x="4692600" y="2422440"/>
            <a:ext cx="316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TAGGER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WARD CENT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WAY FROM CENT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IAGONA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URVED LIN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OVE IN A CIRC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8840" y="1060560"/>
            <a:ext cx="737424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quired actions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pins – turns – jumps – chainee – box ste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9" name="Content Placeholder 3" descr="JUMP.jpeg"/>
          <p:cNvPicPr/>
          <p:nvPr/>
        </p:nvPicPr>
        <p:blipFill>
          <a:blip r:embed="rId1"/>
          <a:srcRect l="0" t="9448" r="0" b="9448"/>
          <a:stretch/>
        </p:blipFill>
        <p:spPr>
          <a:xfrm>
            <a:off x="888840" y="2244600"/>
            <a:ext cx="2386080" cy="1136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POSES.jpeg"/>
          <p:cNvPicPr/>
          <p:nvPr/>
        </p:nvPicPr>
        <p:blipFill>
          <a:blip r:embed="rId2"/>
          <a:stretch/>
        </p:blipFill>
        <p:spPr>
          <a:xfrm>
            <a:off x="3881520" y="2244600"/>
            <a:ext cx="1285920" cy="1287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POSES 3.jpeg"/>
          <p:cNvPicPr/>
          <p:nvPr/>
        </p:nvPicPr>
        <p:blipFill>
          <a:blip r:embed="rId3"/>
          <a:stretch/>
        </p:blipFill>
        <p:spPr>
          <a:xfrm>
            <a:off x="888840" y="3718080"/>
            <a:ext cx="2360880" cy="1768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2" descr="POSES 4.jpeg"/>
          <p:cNvPicPr/>
          <p:nvPr/>
        </p:nvPicPr>
        <p:blipFill>
          <a:blip r:embed="rId4"/>
          <a:stretch/>
        </p:blipFill>
        <p:spPr>
          <a:xfrm>
            <a:off x="3413160" y="3718080"/>
            <a:ext cx="2398680" cy="1920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3" descr="spinning.jpeg"/>
          <p:cNvPicPr/>
          <p:nvPr/>
        </p:nvPicPr>
        <p:blipFill>
          <a:blip r:embed="rId5"/>
          <a:stretch/>
        </p:blipFill>
        <p:spPr>
          <a:xfrm>
            <a:off x="5572080" y="2227320"/>
            <a:ext cx="1004760" cy="1490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4" descr="SPIN jpeg.jpeg"/>
          <p:cNvPicPr/>
          <p:nvPr/>
        </p:nvPicPr>
        <p:blipFill>
          <a:blip r:embed="rId6"/>
          <a:stretch/>
        </p:blipFill>
        <p:spPr>
          <a:xfrm>
            <a:off x="6576840" y="3632040"/>
            <a:ext cx="1530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27160" y="769680"/>
            <a:ext cx="7021440" cy="12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eve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SE LOW – MEDIUM – HIGH LEVEL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6" name="Content Placeholder 9" descr=""/>
          <p:cNvPicPr/>
          <p:nvPr/>
        </p:nvPicPr>
        <p:blipFill>
          <a:blip r:embed="rId1"/>
          <a:stretch/>
        </p:blipFill>
        <p:spPr>
          <a:xfrm>
            <a:off x="2671920" y="2714760"/>
            <a:ext cx="389232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Your Guiding pap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89640" y="2263680"/>
            <a:ext cx="877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Fill out this form while you are working on your dance.  It will help you to include all th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Different aspects of a Dance.  Your teacher will collect it for you at the end of each class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9" name="Content Placeholder 3" descr="Screen shot 2013-03-06 at 8.12.47 PM.png"/>
          <p:cNvPicPr/>
          <p:nvPr/>
        </p:nvPicPr>
        <p:blipFill>
          <a:blip r:embed="rId1"/>
          <a:srcRect l="0" t="27699" r="0" b="27699"/>
          <a:stretch/>
        </p:blipFill>
        <p:spPr>
          <a:xfrm>
            <a:off x="1260360" y="2982960"/>
            <a:ext cx="64008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reative directo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ke the dance INTRESTING OR SPECIA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cide on the theme, the costume or prop, the music, the beginning and ending pose (or act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45520" indent="-245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cide everything with the choreograph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1:43:58Z</dcterms:created>
  <dc:creator>Lien  Indigne</dc:creator>
  <dc:description/>
  <dc:language>en-US</dc:language>
  <cp:lastModifiedBy>Lien  Indigne</cp:lastModifiedBy>
  <dcterms:modified xsi:type="dcterms:W3CDTF">2013-03-06T13:40:43Z</dcterms:modified>
  <cp:revision>54</cp:revision>
  <dc:subject/>
  <dc:title>Your dance performance</dc:title>
</cp:coreProperties>
</file>